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983D-4BBD-40B0-86AC-0AF2BAF4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619-97DD-4B6F-9510-4341B10E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609-4657-4311-8FEA-BC5AFD522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2DE2-E0C4-4BF7-B77D-2AE2E59A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3B2-DAE5-4414-BAEC-7BA91B9C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3576-4F6B-44B3-9F39-22073DE6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7646-0049-432B-9410-52D3DA63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25D-1866-4129-9FEF-E9CF74FC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FCA-4629-4EC9-84DD-ABCED51A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F5E-352B-4913-8E2D-8572A371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FE0-C927-469D-B05E-D34490F35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83C-E986-4980-8949-DEC92737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373-AF18-4F23-929A-19FEA29F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239-F789-4581-84C7-41F921E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EC8-E560-4698-A39B-3D7A700B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C99-0BAA-4683-954A-4590B46F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E70-85C9-4167-8443-2FC9426D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1CA-E5AB-44F7-9C16-5A2942DE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A697-3AEB-4651-888C-6525F3F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E8E4-EE27-49B3-B11C-3A3898B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02D8-D381-48B5-B7A4-7614E393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0B7-872A-4561-99DA-048A5610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E43-D139-43A6-9901-B6BD5C8E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C5A8-4C69-42C1-A300-8D4FA65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F48-F922-4654-A06D-634690B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3044-541B-4D00-9710-0E99FB5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6BC-94B6-4840-8567-AA7C52C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B007-1F2A-40BF-B711-403A23C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E29-6A60-44F6-9FDD-BE071A11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1DE-3B8F-454F-86B5-5F4B911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3892-C42C-49D8-9C96-68A3E68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C455-D48F-41BA-BD0D-174232F1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6B72-A8F7-4FFD-B254-AC75EC3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BE5A-B2DD-4B80-BC39-8093796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DA0F-DA21-42DC-AA55-3099637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A5A-B111-483D-B779-F044161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3952-957F-4F69-89C3-507CCE9E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0562-A579-474C-83EF-89647A1F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0C85-4A15-4ABC-9819-3C05AD6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E2E2-0CF9-4322-8510-A1C5A5B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6F38-E0E1-47D8-B808-234A944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E75A-91FE-4894-8467-13403262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1A75-A2BC-49C7-B578-021C643C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C244-FA6B-4410-89D7-0B010965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4BEC-FEB0-413E-B817-C29A166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378E-D1C8-4CFC-B590-CACDCAD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F28-E6E1-463C-B44E-1BA43DB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0C206-04C0-440E-808B-E105E117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DD2B-AD7A-45E8-AE99-9E71323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633D-3C8F-4D5E-B0D0-6997D07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3C49-3FE8-4EDB-A6BF-04F1462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1BDF-75F5-41C2-8106-D79E9D7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945B-5D7C-4C31-A5F7-54E29D8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EA33-16BA-40CB-BB18-2D9B2F3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7D60-7684-45B9-900E-25C96EC7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0D3C-BD1B-41DD-981D-0E157119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7C9C-B7CF-4E5E-B19F-E0CC86A9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62E-4D40-4802-A861-21B52976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0E85-7BE1-4565-B1C5-A812332A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03BC-5EE2-4D31-BA6D-4263558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67DF-52D3-42E5-B10C-539D7A16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9EAB-6379-47C0-8A65-4C1F4E8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32E7-940F-4D2C-A181-DEB364E8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BCF3-D1CD-44C2-8235-DBA31D70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4A1B-C191-4210-8D7F-40F41FC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52C2-D333-4B67-B147-1DEEA2A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458F-0969-453D-BBAB-13C4C65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A816-B855-4B59-83B4-274291CC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89C-7A67-4AB2-B559-B7BFB107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8E2A5-B37F-4CEE-8EAD-D908C3E3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8C1-21CF-439A-B326-9FC41E3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F8B-48EE-4C0B-A2B6-23FB806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B6B-9FD8-4634-B2EA-0F95893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D5E-8ABC-41A1-98AA-7563F0D6C5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137-E181-4944-9ECA-692B30AE71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775-B33F-45C6-9FE9-E931BACFEB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667A-6D43-4ACB-A188-3A2AC7FE94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5AA5-7FC7-4647-AAD8-541B1A627F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0D4-89C6-4878-9469-4E66F1CC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Book"/>
              </a:rPr>
              <a:t>CLINICAL TRIAL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921-50A4-4CAD-A2C7-C671F870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ouble-blind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rial, neither subject nor investigator is aware of which treatment is administer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ingle-blind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rial, investigator knows which treatment is administered, but subject does no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ulticente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rials (as opposed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ingle-cente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rials) recruit subjects faster, and results can be generalized to more diverse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ole of a Clinical Statistic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7B3F-212F-4A3F-BBB4-3F519880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termines trial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valuates required group sample siz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pares statistical section of protoc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ndomizes group allo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nitors the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yzes the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s interim data reports to DSM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ides final report to F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How much does a clinical statistician see of the excitement of the trial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3BA-53B4-4806-8E80-A7BEC19F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boardmeeting"/>
          <p:cNvPicPr/>
          <p:nvPr/>
        </p:nvPicPr>
        <p:blipFill>
          <a:blip r:embed="rId1"/>
          <a:stretch/>
        </p:blipFill>
        <p:spPr>
          <a:xfrm>
            <a:off x="1828800" y="1981080"/>
            <a:ext cx="49528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5846-576E-4632-AB13-FC0840BB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linical trial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re investigations of risks and benefits of n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herapi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humans (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ubject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nical trials are applicable 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armaceutical industry (new drug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otechnology (new biological devic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omedical centers (new surgical procedures, new therapi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0BE3-CDE3-4F1E-A9B1-8FCF75D1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3PMT8CAMT3XS2CA60YDQNCATND7E5CAEUIMWZCAJZKQ3GCARG6KSZCA7AC1HECAZD6422CAEF4DWVCAVWQ8VJCAUMXGZRCAK9Q2SICAJSHI0KCABZ07CYCAEC95JFCAW96RDKCA10XNXE"/>
          <p:cNvPicPr/>
          <p:nvPr/>
        </p:nvPicPr>
        <p:blipFill>
          <a:blip r:embed="rId1"/>
          <a:stretch/>
        </p:blipFill>
        <p:spPr>
          <a:xfrm>
            <a:off x="838080" y="449280"/>
            <a:ext cx="1447920" cy="1322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E1A0LCA596I3YCA1U5WLOCAL7DXGVCAT4EIX4CA1BPEDLCA56QYBHCACSQIPYCA9A27XHCALFWBTOCAMALRTZCAQPKX3QCARSKR3ICA7UDQC6CA4RMVYGCAUJO3R5CASFUUSNCAMXYSVR"/>
          <p:cNvPicPr/>
          <p:nvPr/>
        </p:nvPicPr>
        <p:blipFill>
          <a:blip r:embed="rId2"/>
          <a:stretch/>
        </p:blipFill>
        <p:spPr>
          <a:xfrm>
            <a:off x="4191120" y="2743200"/>
            <a:ext cx="1238040" cy="1252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G5HD9CA9SBM8NCAOPUURXCAOPLBFMCAAD5271CANL3335CA7MPPSYCA42PVKVCAVGNM1ICA2SHBNHCAQR9TEGCANZSIWWCARHOQAKCA5RCDKVCATMZVSFCAOQJXXBCA5A8BKFCA8K04PY"/>
          <p:cNvPicPr/>
          <p:nvPr/>
        </p:nvPicPr>
        <p:blipFill>
          <a:blip r:embed="rId3"/>
          <a:stretch/>
        </p:blipFill>
        <p:spPr>
          <a:xfrm>
            <a:off x="6095880" y="1389240"/>
            <a:ext cx="1295640" cy="122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KZWGUCACSP3ILCAZGWGWCCA6PT5MTCAN83DG5CA3LOQEUCAL6VMA1CAYFVNS0CA3LMYF4CA923XPKCAAWKZNJCA4B3GO5CA01ZBOTCA5DPT26CA05TVLUCAVO2BBJCAHM4JNLCAGKOJH7"/>
          <p:cNvPicPr/>
          <p:nvPr/>
        </p:nvPicPr>
        <p:blipFill>
          <a:blip r:embed="rId4"/>
          <a:stretch/>
        </p:blipFill>
        <p:spPr>
          <a:xfrm>
            <a:off x="1447920" y="2971800"/>
            <a:ext cx="1247760" cy="128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6E9TZCAU41GTICAW4KAMGCAMEKL2ZCA0FFLW9CAGQTWKSCATSZO35CAW9SC2ACAIU00CHCAC5LT5NCARJHX6VCAYWMUR6CALTVL42CACCOYTLCAKATFN8CA4Q3MPNCAMJ8516CAI7XUTV"/>
          <p:cNvPicPr/>
          <p:nvPr/>
        </p:nvPicPr>
        <p:blipFill>
          <a:blip r:embed="rId5"/>
          <a:stretch/>
        </p:blipFill>
        <p:spPr>
          <a:xfrm>
            <a:off x="5943600" y="4876920"/>
            <a:ext cx="1295280" cy="1252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935Z4CAPEDO7SCABLBHVSCALQ14A5CANYCSPYCABO4PTUCA2O71AFCAUPJFIDCAGC4WY6CAPLSNNDCAI74F4DCAP92D37CAT2ODT6CAADNGXYCAM1A4KUCAS9P6KWCAGYGPO8CA2UFT8B"/>
          <p:cNvPicPr/>
          <p:nvPr/>
        </p:nvPicPr>
        <p:blipFill>
          <a:blip r:embed="rId6"/>
          <a:stretch/>
        </p:blipFill>
        <p:spPr>
          <a:xfrm>
            <a:off x="3124080" y="4621320"/>
            <a:ext cx="1371600" cy="119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FNLKHCAC0VDU0CACIV7PUCA834A5WCAY3XTE4CAEHGHASCA0RM3I0CANGOEMHCADT2WZ9CAI8JXV1CA52WG0ECA9EY46NCARFR106CADMFWKQCAPC2UVVCAX5XAIECAYCMXBTCAUIMUPP"/>
          <p:cNvPicPr/>
          <p:nvPr/>
        </p:nvPicPr>
        <p:blipFill>
          <a:blip r:embed="rId7"/>
          <a:stretch/>
        </p:blipFill>
        <p:spPr>
          <a:xfrm>
            <a:off x="4952880" y="685800"/>
            <a:ext cx="1131840" cy="1276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imagesa"/>
          <p:cNvPicPr/>
          <p:nvPr/>
        </p:nvPicPr>
        <p:blipFill>
          <a:blip r:embed="rId8"/>
          <a:stretch/>
        </p:blipFill>
        <p:spPr>
          <a:xfrm>
            <a:off x="1905120" y="51814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LDOPUCAJN336WCA2P1YMJCA663Y6KCABIZ1FTCAF4STYVCAYKOQ6JCAP8EVUFCA4FOS7OCAEC29OTCA0O64J0CANWM6VWCAUCA4N8CA0MT6EGCAZ91VXYCAM3LI03CATGLO0XCAXF3W4A"/>
          <p:cNvPicPr/>
          <p:nvPr/>
        </p:nvPicPr>
        <p:blipFill>
          <a:blip r:embed="rId9"/>
          <a:stretch/>
        </p:blipFill>
        <p:spPr>
          <a:xfrm>
            <a:off x="2362320" y="99072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Y3T0MCAOIG99XCASKRR3ACA5GJ3KECADRURASCANESPXGCA9E644ECAU9QNU3CA2PK104CAPMHLKLCA06XF5RCAOD3YEWCA13AMY6CAAF1QUKCAX001R3CAVTG99PCALTTNNZCARRKE8B"/>
          <p:cNvPicPr/>
          <p:nvPr/>
        </p:nvPicPr>
        <p:blipFill>
          <a:blip r:embed="rId10"/>
          <a:stretch/>
        </p:blipFill>
        <p:spPr>
          <a:xfrm>
            <a:off x="5486400" y="2895480"/>
            <a:ext cx="1285920" cy="1238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Z2IUECAC3XM3MCACIAWOWCATUS8OPCA7QNCV1CAIG7I3DCAJ5V6ILCAZWH8NTCA2XJYWUCAXUFTMHCAA8TNM9CA8T47NCCAOIVIJ1CAGYNAKPCA819ELPCAUQ6AZGCACO1KSDCA2BSPAV"/>
          <p:cNvPicPr/>
          <p:nvPr/>
        </p:nvPicPr>
        <p:blipFill>
          <a:blip r:embed="rId11"/>
          <a:stretch/>
        </p:blipFill>
        <p:spPr>
          <a:xfrm>
            <a:off x="4572000" y="45720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GHZ90CAHKNGIACAW4ERN0CAOAAFXWCACM71ZVCAKOAD2GCAE6BAIXCAUQTBTHCAFWDZRJCAN2V0Y8CA4A73RLCAUP4AG1CARF16O8CAVOKTDCCACC5YAXCAWL1F4ICAKU65FFCA1GP3PH"/>
          <p:cNvPicPr/>
          <p:nvPr/>
        </p:nvPicPr>
        <p:blipFill>
          <a:blip r:embed="rId12"/>
          <a:stretch/>
        </p:blipFill>
        <p:spPr>
          <a:xfrm>
            <a:off x="7238880" y="609480"/>
            <a:ext cx="1305000" cy="120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images"/>
          <p:cNvPicPr/>
          <p:nvPr/>
        </p:nvPicPr>
        <p:blipFill>
          <a:blip r:embed="rId13"/>
          <a:stretch/>
        </p:blipFill>
        <p:spPr>
          <a:xfrm>
            <a:off x="304920" y="1905120"/>
            <a:ext cx="1218960" cy="1266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" descr="imagesc"/>
          <p:cNvPicPr/>
          <p:nvPr/>
        </p:nvPicPr>
        <p:blipFill>
          <a:blip r:embed="rId14"/>
          <a:stretch/>
        </p:blipFill>
        <p:spPr>
          <a:xfrm>
            <a:off x="7086600" y="2590920"/>
            <a:ext cx="136224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" descr="0T2T7CAAZT8C2CAZR2PEYCAGZ5TV3CAYS04TPCAYHGWR1CA06CMI0CANU70NOCA1GMVUECAEXBAXKCA0JI1VPCAU1YCHVCA862RK1CATCF51ICAKBMSVBCAERNK2WCAV108PFCA2XOGQZ"/>
          <p:cNvPicPr/>
          <p:nvPr/>
        </p:nvPicPr>
        <p:blipFill>
          <a:blip r:embed="rId15"/>
          <a:stretch/>
        </p:blipFill>
        <p:spPr>
          <a:xfrm>
            <a:off x="7086600" y="3962520"/>
            <a:ext cx="1170000" cy="1295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" descr="imagese"/>
          <p:cNvPicPr/>
          <p:nvPr/>
        </p:nvPicPr>
        <p:blipFill>
          <a:blip r:embed="rId16"/>
          <a:stretch/>
        </p:blipFill>
        <p:spPr>
          <a:xfrm>
            <a:off x="3581280" y="304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" descr="KYN8JCAD34WJ6CAWFBJE2CAP4NYZMCAHKTSGOCA90PYUPCAZ1SIOMCA3GW4BWCAEK5321CAYQGWEPCACN09E9CAZP5LB3CA2AP2WXCAEQ6155CAGIT2D1CAPL4EQ7CAO0F1EXCATVILNF"/>
          <p:cNvPicPr/>
          <p:nvPr/>
        </p:nvPicPr>
        <p:blipFill>
          <a:blip r:embed="rId17"/>
          <a:stretch/>
        </p:blipFill>
        <p:spPr>
          <a:xfrm>
            <a:off x="685800" y="4114800"/>
            <a:ext cx="1324080" cy="1428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F0HCRCAZKDL26CAVG3GKDCAH3HF2ACAXEO78QCAT6UDGDCAPJZI8PCAKTEYFKCA1NT2WKCAPOTTALCAXV633OCA9IHYMDCAFWFQAYCA0S7IGZCAT1C6XTCAFH8R4ICAJ6TA3JCADRZEDK"/>
          <p:cNvPicPr/>
          <p:nvPr/>
        </p:nvPicPr>
        <p:blipFill>
          <a:blip r:embed="rId18"/>
          <a:stretch/>
        </p:blipFill>
        <p:spPr>
          <a:xfrm>
            <a:off x="2895480" y="3505320"/>
            <a:ext cx="1143000" cy="119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imagesd"/>
          <p:cNvPicPr/>
          <p:nvPr/>
        </p:nvPicPr>
        <p:blipFill>
          <a:blip r:embed="rId19"/>
          <a:stretch/>
        </p:blipFill>
        <p:spPr>
          <a:xfrm>
            <a:off x="7238880" y="5410080"/>
            <a:ext cx="1067040" cy="984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imagesf"/>
          <p:cNvPicPr/>
          <p:nvPr/>
        </p:nvPicPr>
        <p:blipFill>
          <a:blip r:embed="rId20"/>
          <a:stretch/>
        </p:blipFill>
        <p:spPr>
          <a:xfrm>
            <a:off x="3352680" y="1712880"/>
            <a:ext cx="144792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Process of Clinical Trials </a:t>
            </a:r>
            <a:br>
              <a:rPr sz="4000"/>
            </a:b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(from the subject’s point of view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C93-EF33-4D06-B84F-1B1F2E1D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nrollmen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by physician’s recommend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gning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nformed consent for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ndergo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initial treat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tending schedu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ing in the trial after completion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signing of addendum to informed consent form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eriencing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adverse even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termina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ropping out of the trial due to accidental death or geographical relocation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called drop-out or lost to follow-up subject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Process of Clinical Trials </a:t>
            </a:r>
            <a:br>
              <a:rPr sz="4000"/>
            </a:b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(from the investigators’ point of view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B523-B94A-4EA7-B3B7-1DF6078C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a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ase I (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ilot stud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) product is tested in a small group of volunteers (&lt;30 peopl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ase II (100-300 volunte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b2d1f"/>
                </a:solidFill>
                <a:latin typeface="Perpetua"/>
              </a:rPr>
              <a:t>Phase III (500-3000 subjec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ase IV (post-marketing surveillanc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93DE-A61D-46CA-B7C4-D97CB034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04960" y="9144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Key participants in Phase III tri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sponso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(selects qualified investigators, monitors product efficacy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monitors subjects’ saf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clinical research associat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(oversees that personnel are properly trained, assures supply of materi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external committees (Institutional Review Board (IRB) –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safety of human subjects,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Data Safety Monitoring Board (DSMB) –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monitors data continuously for undue risk of subject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FC33-05B6-4A0F-B45E-E3E34ED7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ncipal investigator (PI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as a medical doctor, oversees recruitment and treatment of subject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linical research coordinator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responsible for subject enrollment, scheduling follow-up visits, data collec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manager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maintains the database, generates queri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LINICAL STATISTICIAN !!!!!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duties will be discussed late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Process of Clinical Trials </a:t>
            </a:r>
            <a:br>
              <a:rPr sz="4000"/>
            </a:b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(from the investigators’ point of view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32D-78DA-4BDD-8E7F-1F27C9E7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epar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trial protocol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cument that describes in detail every aspect of the trial: subjects recruitment, treatment regimen, trial termination procedure. Protocol should be approved by IRB before the trial begi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nducting the tri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mitting the final report to Food and Drug Administration (FDA) for approv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sic Defini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BC5-2BC1-4682-8951-8A68D5CE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Baseline (or time zero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the time when subject enters the tri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Randomized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trial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treatment group(s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subjects are randomly assigned to either group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group subjects rece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placebo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– a treatment that has no medicinal ingredien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Nonrandomized trial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historical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ntrol group – subjects treated in the pas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5:41:17Z</dcterms:created>
  <dc:creator>Owner</dc:creator>
  <dc:description/>
  <dc:language>en-US</dc:language>
  <cp:lastModifiedBy>Olga Korosteleva</cp:lastModifiedBy>
  <dcterms:modified xsi:type="dcterms:W3CDTF">2022-08-24T22:39:40Z</dcterms:modified>
  <cp:revision>5</cp:revision>
  <dc:subject/>
  <dc:title>CLINICAL TRIALS</dc:title>
</cp:coreProperties>
</file>