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09DB-2B40-4E03-ACE7-1A9B14731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8568-158B-4DEB-9530-AC2A0CEFE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74FE-F601-4932-8141-251DA4BD8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E2E3-23E2-4812-9E31-5A3F210B9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B58E2-06F6-440A-882B-0CDA00DA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30410-6DCD-450C-8966-249020BD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E4154-E2C8-4B98-8C1E-75E71AF9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51514-810F-48FD-B888-FE3E1C51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4EA3A-F780-4C62-B10B-1B9949DC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36F51-2860-425C-AE12-088D0C86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66ED2-5E30-4E69-BA18-B6D4F338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D09A-25BB-46CA-A465-D4E2DCF7B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355A3-F886-49CD-BC3B-39A8F457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BA1F6-19E1-48ED-87E9-7004C9F1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87BA0-5226-4D43-9D0C-F98EB96D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AEDED-5F0E-4F6F-83EA-74FB884A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96C41-6D89-40FE-8E80-DDBFA860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3611-0038-486E-B316-041EDCB52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2916-A7F2-4A59-AA08-309C71238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1D91-0399-403E-9872-B01AF6E47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5B71-B2BC-4649-8E1C-E8C08B135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0F84-13B4-4964-845D-04CE7F6E1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8F55-0764-4188-A47C-2A53FA07F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73C3-E9BE-431D-8BAF-51B49C207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FDA1-0B99-4D06-8F5C-2DA32B4AD8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914400"/>
            <a:ext cx="12952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0"/>
            <a:ext cx="41911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457200"/>
            <a:ext cx="304812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38880" y="685800"/>
            <a:ext cx="190512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228600"/>
            <a:ext cx="34290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41400">
            <a:off x="-1080" y="6582960"/>
            <a:ext cx="1066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Slide </a:t>
            </a:r>
            <a:fld id="{88FFD992-4E45-4166-8C28-230D56FBB975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00280" y="1098720"/>
            <a:ext cx="72360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28600" y="1905120"/>
            <a:ext cx="53352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"/>
          <p:cNvSpPr/>
          <p:nvPr/>
        </p:nvSpPr>
        <p:spPr>
          <a:xfrm flipH="1">
            <a:off x="685080" y="228600"/>
            <a:ext cx="27000" cy="60199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520" y="2546280"/>
            <a:ext cx="230040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2A8E-A612-4AA4-854B-E751FE13AA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914400"/>
            <a:ext cx="26668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0"/>
            <a:ext cx="80773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"/>
            <a:ext cx="457200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685800"/>
            <a:ext cx="380988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28600"/>
            <a:ext cx="6248520" cy="2286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95480"/>
            <a:ext cx="41148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3200400"/>
            <a:ext cx="5637240" cy="474840"/>
            <a:chOff x="152280" y="3200400"/>
            <a:chExt cx="5637240" cy="474840"/>
          </a:xfrm>
        </p:grpSpPr>
        <p:sp>
          <p:nvSpPr>
            <p:cNvPr id="69" name=""/>
            <p:cNvSpPr/>
            <p:nvPr/>
          </p:nvSpPr>
          <p:spPr>
            <a:xfrm>
              <a:off x="152280" y="3200400"/>
              <a:ext cx="32209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0000" y="3200400"/>
              <a:ext cx="28195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438280"/>
            <a:ext cx="36720" cy="36576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hapter 2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eating a First VB .NET Solu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th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Interfac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r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Visual elements should be readily comprehen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Provide immediate and clear feedback to th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dvise the user of errors and provide suggestions to correct error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void unnecessary graphics that serve no useful purp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 graphics as intuitive metaphors such as a stop sig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Minimize transitions from keyboard to mo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ual Elements of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 Insta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ign control instances vertically or horizont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tribute control instances evenly about the for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oup control instances together function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instances should have a similar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 aware of screen resolution and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ize use of bright col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 bright colors only for emphasi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rovide adequate contrast between foreground and background color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ilar objects should have similar col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For example, use the same text and background color for label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ting Properties a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Properties window to set properties for the form and the control instances created on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You only use the Properties window to set properties at design ti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BackColo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pecifies the form’s background colo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FormBorderStyl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defines the appearance of the form’s border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co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defines the icon appearing in the form’s title b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define size of the form or control instan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define position of the form or control instan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ting Prope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er or select data in value colum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column operates differently depending on the type of data stored in the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r some properties you edit tex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t colors using a color palett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se a dialog box to set properties involving font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r properties such as FormBorderStyle, select predefined values from a drop-down lis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nd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4738680" cy="4876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19320" y="1981080"/>
            <a:ext cx="236196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the list box to select form or control insta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rm1 selec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504960" y="1523880"/>
            <a:ext cx="6094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3048120"/>
            <a:ext cx="2361960" cy="9903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 property expanded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button to expand or collapse prope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581280" y="3200400"/>
            <a:ext cx="5335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505320" y="152388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1828800" y="4876560"/>
            <a:ext cx="533160" cy="533520"/>
          </a:xfrm>
          <a:custGeom>
            <a:avLst/>
            <a:gdLst>
              <a:gd name="textAreaLeft" fmla="*/ 0 w 533160"/>
              <a:gd name="textAreaRight" fmla="*/ 533520 w 5331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9400ed"/>
              </a:gs>
              <a:gs pos="100000">
                <a:srgbClr val="0000ff"/>
              </a:gs>
            </a:gsLst>
            <a:lin ang="10800000"/>
          </a:gra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ting the Name Proper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forms and control instances have a Name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must adhere to the following ru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First character must be a lett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ubsequent characters can contain letters and number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ame must be less than 255 characters long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annot contains special characters other than an underscor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ame cannot contain spac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ame must be uniqu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Conven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meaningful names improves code read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eaninful names help you the developer. VB .NET does not care about these naming prefix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book uses a prefix (usually three characters) for forms, controls and other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Form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"frm"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Butto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"btn"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Label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"lbl"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OpenFileDialog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"ofd"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PictureBox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"pic"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naming a Form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Solution Explorer to change the disk file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o not change the file exten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o not rename files using Windows Explorer. Use the Solution Explor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Properties window to set Name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pply standard prefix of "frm" followed by a descriptive na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rtup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necessary using project’s Property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that disk file name and the value of the Name property may be diffe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naming a Form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657600" y="1981080"/>
            <a:ext cx="5105520" cy="306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38080" y="4114800"/>
            <a:ext cx="24386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name of form (frmMain.vb) appears in Solution Explo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124080" y="4267080"/>
            <a:ext cx="9144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ting the Startup Ob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5486400" cy="3511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2120" y="1828800"/>
            <a:ext cx="236196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ate the Property Pages by right clicking project in the Solution Explorer and selecting Property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124080" y="3352680"/>
            <a:ext cx="28195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276720"/>
            <a:ext cx="23619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up object set to frm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e the role of the develo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ine the steps in creating and saving a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how to design a user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properties at desig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Label, Button, and PictureBox contr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purpose of the Code Edi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 event hand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programming errors and assignment stat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ling the Form’s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rder Sty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BorderSty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perty controls whether user can resize the form, and the appearance of the form’s b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Non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no bord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FixedSingl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flat border not resizab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Fixed3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3D border not resizab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FixedDialog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for dialog box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izabl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user can resize the form by dragging the bord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FixedToolWindow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izableToolWindow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appears with a shorter title b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ting the FormBorderStyle Proper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647960" cy="4067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143000" y="3124080"/>
            <a:ext cx="251460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the desired border style from the drop-down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657240" y="3276720"/>
            <a:ext cx="25146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ting the BackColor Property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029200" y="1143000"/>
            <a:ext cx="3576600" cy="4419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52480" y="2286000"/>
            <a:ext cx="243864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BackColor using the color pal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190760" y="2590920"/>
            <a:ext cx="19810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ting the Font proper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2438280"/>
            <a:ext cx="236232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the Font property using the Font dialog bo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4900320" cy="3857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3429000" y="2666880"/>
            <a:ext cx="5335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ting the TextAlign Property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716280" cy="4622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981080" y="4800600"/>
            <a:ext cx="236232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the TextAlign property visual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343040" y="5029200"/>
            <a:ext cx="21337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ontrol Bo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box appears at the upper-right corner of the form’s title 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rol box has three butt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eft button - Minimize button hides the for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iddle button – Maximizes or restores the window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ight button – Closes the for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 Applicable to the Control Bo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trolBo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perty determines whether the control box appears on the title 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ximizeBo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perty enables or disables the maximize / restore butt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nimizeBo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nables or disables the minimize but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f these properties store the value True or 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Label Control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identify other control instances on a form or display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cannot enter text in a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andard prefix for the Label control is "lb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867280" y="838080"/>
            <a:ext cx="8384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Label Control (Properti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rderSty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defines the border surrounding the lab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o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defines the typeface and font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oreColor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ackCol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– defines the text and background colors respectiv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t these properties using the color palett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defines name of control instance. Must be uniq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Remember to use the prefix "lbl"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appears in the visible region of control inst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Alig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property defines alignment of tex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isi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determines whether control instance is visible or no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le values are True and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Control Inst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43200" y="1889280"/>
            <a:ext cx="6095880" cy="39718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flipH="1">
            <a:off x="3581280" y="2362320"/>
            <a:ext cx="19814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200040" y="5943600"/>
            <a:ext cx="6094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133360" y="2895480"/>
            <a:ext cx="6094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2590920"/>
            <a:ext cx="22860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box is typically autohid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3352680"/>
            <a:ext cx="22860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the Label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514600" y="342900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514600" y="4191120"/>
            <a:ext cx="19051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3886200"/>
            <a:ext cx="2286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the control instance by drawing it on the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ole of Author and Develop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a programmer you use existing tools called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mponents include the controls found in the Toolbox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velop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you use components created by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 this chapter, you will work in the role of the develop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you create components designed for use by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ving a Control Instance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4654440" cy="4754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 flipH="1">
            <a:off x="3657240" y="4038480"/>
            <a:ext cx="16765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2743200"/>
            <a:ext cx="243828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, click the control instance to activate i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izing handles appe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809880" y="3124080"/>
            <a:ext cx="18288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3733920"/>
            <a:ext cx="0" cy="30456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3733920"/>
            <a:ext cx="2438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g the control instance to its new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izing a Control Inst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4102200" cy="41907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066680" y="2362320"/>
            <a:ext cx="24386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, click the control instance to select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504960" y="3886200"/>
            <a:ext cx="19047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3733920"/>
            <a:ext cx="24386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g the control instance to its new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eting a Control Inst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he control instance appearing on the form to select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s the Dele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Button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button that the user cli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andard prefix is "bt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ton control instance fires a Click event when clicked by the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re on events later in the chapt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ositional properties are the same as the Label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248520" y="9907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tton Control (Properti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abl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controls whether button will generate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id values are True and Fals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latSty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controls visual appea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id values are Flat, Popup, Standard, or Syste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contains image that appears in but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ageAl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defines position of image if an image app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property contains Butto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recede a character with an ampersand (&amp;) to define a hot ke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ing Multiple Control Instanc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to set properties for multiple control instances at the same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ing multiple control instances allows you to align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wo techniques exist to select multiple control insta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old down the Shift key, and then click on the desired control instanc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rag a region with the pointer too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ven if only part of a control instance is in the region, the control instance will be select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perties window displays a limited set of properties. No object appears in the Object list bo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ing Multiple Control Instanc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4157640" cy="4149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flipH="1">
            <a:off x="3733560" y="5867280"/>
            <a:ext cx="38098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5486400"/>
            <a:ext cx="251460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ing handles surround three selected control insta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43800" y="4952880"/>
            <a:ext cx="0" cy="91440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800600"/>
            <a:ext cx="0" cy="10666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62720" y="5029200"/>
            <a:ext cx="0" cy="8380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580920" y="464832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4038480"/>
            <a:ext cx="251460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 control instance surrounded with black sizing hand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ing Multiple Control Insta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t menu contains menu items to align control instances (selected control instances are align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lig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Align margins with one anoth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Make Same Siz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Make control instances the same siz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Horizontal Spacing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Set horizontal spacing between control instanc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Vertical Spacing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Set vertical spacing between control instanc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enter in Form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Center control instances between the form margi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ictureBox control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s graphical images of varying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Bitmaps, Gif, and othe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s will stretch and resize based on property sett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prefix is "pic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010280" y="10666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ictureBox Control (Properti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derSty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controls appearance of surrounding b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contains picture appearing in visible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zeM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controls how image will be res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Normal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Image size is fix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tretchImag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Image will resize to fit in the control instance’s visible region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utoSiz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Control instance resizes to fit imag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enterImag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Center image in visible region of control instan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New Sol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program you create is called a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olution file as a suffix of .sl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olution is created in its own unique f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hen you create a solution, VB .NET creates the solution folder. It must not already exis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olution folder contains other folders and all of the files comprising the solu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o copy a solution to another computer, copy the solution folder and all of its content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the SizeMode Proper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6135840" cy="3834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flipH="1">
            <a:off x="1599840" y="2514600"/>
            <a:ext cx="12193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362320"/>
            <a:ext cx="190512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tchIm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2895480"/>
            <a:ext cx="190512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4114800"/>
            <a:ext cx="190512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4648320"/>
            <a:ext cx="190512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Im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361960" y="4267080"/>
            <a:ext cx="5331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361960" y="3048120"/>
            <a:ext cx="34290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361960" y="4800600"/>
            <a:ext cx="34290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OpenFileDialog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urpose is to allow the user to select a file from a standard dialog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te that the control just gets file name. It does not open the fi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visible to the user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in a resizable tray at the bottom of the Win Form Des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prefix is "ofd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howDialo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displays the dialog box to the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le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perty contains the name of the file selected by the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00400" y="10666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ode Edi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lly known as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de and Text Editor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telligent text editor used to edit VB .NET and other cod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lus (+) and minus (-) signs appear to expand or collapse code segment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tellisense technology helps to complete statements by displaying tooltip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tomy of the Code Edi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5494320" cy="37814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 flipH="1">
            <a:off x="2590920" y="2971800"/>
            <a:ext cx="8380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19520" y="3657600"/>
            <a:ext cx="39621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2590920"/>
            <a:ext cx="23623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form or control instance in the Class Name lis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81680" y="3048120"/>
            <a:ext cx="0" cy="6094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3505320"/>
            <a:ext cx="236232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event in Method Name lis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4724280"/>
            <a:ext cx="236232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and or collapse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819520" y="5105520"/>
            <a:ext cx="7617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ting the Code for the Sol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may want to print code for a solution for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print c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ctivate the Code Editor for a modul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Fi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nd then click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rin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on the VB .NET menu ba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ent Handl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handlers contain one or more VB .NET statements that execute when a user performs an action such as clicking a but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505320"/>
            <a:ext cx="22860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clicks button to exit the 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885840" y="3809880"/>
            <a:ext cx="11430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3505320"/>
            <a:ext cx="22860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dows generates Click event for Exit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4343400"/>
            <a:ext cx="22860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event (handler) executes for th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858000" y="4114440"/>
            <a:ext cx="0" cy="22860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5334120"/>
            <a:ext cx="6858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5257800"/>
            <a:ext cx="59436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 Sub btnExit_Click(. . .) Handles btnExit.Cl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e.Clo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858000" y="4952520"/>
            <a:ext cx="0" cy="3812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n Event Handler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811840" cy="29368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flipH="1">
            <a:off x="2666880" y="4191120"/>
            <a:ext cx="1447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733920"/>
            <a:ext cx="1981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control instance in Class Name lis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3809880"/>
            <a:ext cx="0" cy="38124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n Event Handler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276720" y="2666880"/>
            <a:ext cx="5126040" cy="2590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 flipH="1">
            <a:off x="2666520" y="5334120"/>
            <a:ext cx="29718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4876920"/>
            <a:ext cx="1981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Event name in Method Name lis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4800600"/>
            <a:ext cx="0" cy="53352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n Event Handler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6024600" cy="2820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 flipH="1">
            <a:off x="2361960" y="4648320"/>
            <a:ext cx="14475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4191120"/>
            <a:ext cx="1981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B .NET creates the event hand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4267080"/>
            <a:ext cx="0" cy="38124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lliSense Tech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5308560" cy="3241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 flipH="1">
            <a:off x="3047760" y="5334120"/>
            <a:ext cx="14475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724280"/>
            <a:ext cx="2286000" cy="10670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llisense technology displays ToolTips and drop-down lists as you type a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4952880"/>
            <a:ext cx="0" cy="38124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s in The Solutio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pter.02\Startup02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s all folders and files comprising sol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rtup02.vbproj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project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rtup02.s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solution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rtup02.su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solution configuration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rmMain.v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form modu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rmmain.res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s form configuration inform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is file is called a resource fi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older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 executable files and debugging inform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 that the structure of a solution differs significantly between VB 6 and VB .N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of Programming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classified into 3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yntax errors occur when a statement violates language rul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Run-time errors occur when a program ru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dialog box appears describing the erro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Break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to highlight the offending statement in the Code Edito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Logic errors occur because of a design or coding proble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logic error may or may not cause a run-time erro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ecting Syntax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971800" y="1905120"/>
            <a:ext cx="5775480" cy="3900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 flipH="1">
            <a:off x="3581280" y="2362320"/>
            <a:ext cx="19814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3429000"/>
            <a:ext cx="23623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ment with syntax error appears underl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5638680"/>
            <a:ext cx="22860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4648320"/>
            <a:ext cx="236232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description appears in Task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819160" y="3809880"/>
            <a:ext cx="9903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819520" y="4876920"/>
            <a:ext cx="3808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un-Time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886200" y="2133720"/>
            <a:ext cx="4334040" cy="18460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066680" y="2209680"/>
            <a:ext cx="24386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og appears as a result of a run-tim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2743200"/>
            <a:ext cx="0" cy="6094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3200400"/>
            <a:ext cx="24386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504960" y="3352680"/>
            <a:ext cx="10666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24280" y="3962520"/>
            <a:ext cx="0" cy="6094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4419720"/>
            <a:ext cx="25146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break to activate the Code Editor and display the offending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505320" y="4572000"/>
            <a:ext cx="12189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ic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 errors occur when a design problem causes incorrect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o fix logic errors, you apply a process known as debugging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fer to Appendix A to learn how to debug program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ogic errors may or may not cause run-time erro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Assignment Stat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ment statements are executable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y appear inside of an event handl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ssignment statements have the sam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eft side contains result of the assignme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ight side contains expression to be evaluat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eft side and right side are separated by an equals sign (=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Statement Synta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bjectName.PropertyName =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tains the name of a control instance (Name proper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perty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tains the name of a support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ssigned to proper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blFileName.Text = "C:\Demo.jpg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tomy of an Assignment Stat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5029200" y="4876920"/>
            <a:ext cx="236232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3657600"/>
            <a:ext cx="0" cy="121932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55560" y="3200400"/>
            <a:ext cx="60328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blFileName.Text = "C:\Demo.jpg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676160" y="3657600"/>
            <a:ext cx="28191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5028840" y="3657600"/>
            <a:ext cx="2438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048120" y="24382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4876920"/>
            <a:ext cx="236232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ft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3657600"/>
            <a:ext cx="0" cy="121932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505320" y="2286000"/>
            <a:ext cx="23619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048120" y="2437920"/>
            <a:ext cx="0" cy="76212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867280" y="24382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324480" y="2437920"/>
            <a:ext cx="0" cy="76212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on Assignment Stat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ment statements may contain the value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the Text property of a button to a lab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blFileName.Text = btnExit.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lling a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apply to an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all the ShowDialog method of the OpenFileDialog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ofdImages.ShowDialog()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all the FromFile method of the System.Drawing.Image class</a:t>
            </a:r>
            <a:br>
              <a:rPr sz="2500"/>
            </a:br>
            <a:br>
              <a:rPr sz="25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cCurrent.Image = System.Drawing.Image.FromFile(ofdImages.FileNa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emplate creates desktop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You will create a Windows Application in this chapt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br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emplate creates components used by oth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br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emplate creates controls to supplement those provided by VB 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P.NET Web Appl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reate dynamic Web pages that execute on a Web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New Sol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Project dialog box allows you to define th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olution type in the Project Types pan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oject templat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Application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to create a desktop application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ocation of the solu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solution is created in a new folder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Remember that the folder must not already exis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olution nam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Project dialog bo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5181840" cy="3764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76920" y="4419720"/>
            <a:ext cx="15238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5181480"/>
            <a:ext cx="25146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4267080"/>
            <a:ext cx="24382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ject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2590920"/>
            <a:ext cx="243828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Windows Application project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2743200"/>
            <a:ext cx="23623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5029200"/>
            <a:ext cx="24382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created in this fol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th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Interface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les of a Good User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ntrol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The user should control the program not the other way aroun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User-friendlines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The interface should help the user accomplish tasks and not call attention to itself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void using too many fonts or imag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ntuitivenes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The interface should follow a direct style that proceeds logicall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nsistency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Use consistent fonts and other elemen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0:26:29Z</dcterms:created>
  <dc:creator>Michael V. Ekedahl</dc:creator>
  <dc:description/>
  <dc:language>en-US</dc:language>
  <cp:lastModifiedBy>New User</cp:lastModifiedBy>
  <dcterms:modified xsi:type="dcterms:W3CDTF">2002-05-31T14:13:54Z</dcterms:modified>
  <cp:revision>938</cp:revision>
  <dc:subject/>
  <dc:title>CHAPTER 1</dc:title>
</cp:coreProperties>
</file>