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EF70-4B51-40E1-96E7-C570DE789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C770-B3B4-477B-BC59-2D5C3754A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9CDD-8DB8-48F5-86F6-9EF673C54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BBD0-1679-4ABE-AA48-E60E9D3DA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DB1B2-AEC2-49A8-B9F1-B9A9E8F6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51929-F914-4EFD-85E8-BB7BCFA1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F20D1-D02B-4D5C-A8A3-922FA6AF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0954A-84A4-4DDC-893F-748B8980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8A16C-3F3D-49DB-92BA-4A34EA96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CF77A-5341-4035-81FA-C51D2D18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5210D-264B-4BD3-9147-C9175C2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4C5A-F037-41AB-8D8B-3F8435B43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D0063-871A-4985-A811-E1D67BA1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E4E88-9BEA-4DD3-9FAB-626E846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5072C-7B0E-4622-A4CB-09F2F10C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68EBE-601B-4211-8480-0C899E1F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D6568-9B9F-403D-93DB-9D09A762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8E01-8EFC-48A8-8B20-2FF791913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B69D-8F2B-4423-8B82-CDC80619C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40F1-0DA1-4126-BB98-1C0D7FBD8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D2F9-5F26-4BAE-A89F-CC4FE710A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76EE-703D-42B3-B379-0A576B478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A589-FAF9-456E-BBA5-0A52D4889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671E-1595-4A0F-94E1-70A3E676A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FD22132C-3EE0-4532-8B75-FA0815194F2C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2508-C167-4096-9BAA-5F816529AD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55D8-5145-4322-9029-FCA3432CFC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 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96160" y="6248520"/>
            <a:ext cx="2247840" cy="685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70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1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etting Started with VB .NE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 Relationship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523880"/>
            <a:ext cx="6934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523880"/>
            <a:ext cx="6781680" cy="387504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frm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herits System.Windows.Forms.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 components = New System.ComponentModel.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5486400"/>
            <a:ext cx="6781680" cy="7333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frmDialo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. . 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666880"/>
            <a:ext cx="5791320" cy="1168920"/>
          </a:xfrm>
          <a:prstGeom prst="rect">
            <a:avLst/>
          </a:prstGeom>
          <a:solidFill>
            <a:srgbClr val="66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ub New(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962520"/>
            <a:ext cx="5791320" cy="1057680"/>
          </a:xfrm>
          <a:prstGeom prst="rect">
            <a:avLst/>
          </a:prstGeom>
          <a:solidFill>
            <a:srgbClr val="66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ub InitializeComponent(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048120"/>
            <a:ext cx="4724280" cy="520200"/>
          </a:xfrm>
          <a:prstGeom prst="rect">
            <a:avLst/>
          </a:prstGeom>
          <a:solidFill>
            <a:srgbClr val="66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Base.New(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izeComponen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330800"/>
            <a:ext cx="4724280" cy="307080"/>
          </a:xfrm>
          <a:prstGeom prst="rect">
            <a:avLst/>
          </a:prstGeom>
          <a:solidFill>
            <a:srgbClr val="66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.Text = "Chapter 1 – Completed 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971440" y="2819520"/>
            <a:ext cx="4800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31360" y="2666880"/>
            <a:ext cx="11682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37840" y="3962520"/>
            <a:ext cx="11682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648320" y="4114800"/>
            <a:ext cx="3124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86000" y="1523880"/>
            <a:ext cx="1282680" cy="580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ule fi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mMain.v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467120" y="1828800"/>
            <a:ext cx="228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5840" y="5486400"/>
            <a:ext cx="1419840" cy="580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ule fi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mDialog.v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467120" y="5715000"/>
            <a:ext cx="228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02920" y="3124080"/>
            <a:ext cx="1252080" cy="5806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324480" y="32767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57640" y="4495680"/>
            <a:ext cx="1215360" cy="5806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324480" y="457200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efine the names of data and proced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tatements declare a variable and a procedure</a:t>
            </a:r>
            <a:br>
              <a:rPr sz="22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mstrCustomerName As Str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ub InitializeComponent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ecu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erform a specific a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tatement closes the form named frmMain</a:t>
            </a:r>
            <a:br>
              <a:rPr sz="22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mMain.Clos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ta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statements adhere to rules known a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ments must be exactly corr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B .NET cannot interpret statements with typographical or spelling err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orrect statements will cause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ntax errors occur when a statement violates the rules of the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972080" y="5105520"/>
            <a:ext cx="48441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mstrCustomerName As St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mMain.Close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B .NET Programming Conce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B .NET solutions have the same characteristics as other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rectangular area on the desk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in Form (form) contains buttons and box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Buttons, boxes, and the form itself are all window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olutions contain 1 or more form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llection of forms, buttons, and boxes form 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User interface represents what the user sees and how the user interacts with the solutio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 Oriented Term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ation hidin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Expose only essential information and hide inner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Integrate (package) data and processes that act on data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ner logic is hidden from the develop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Create new objects from existing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herit one form from another form 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Multiple procedures of the same name perform different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apable of taking many form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 Oriented Term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imics the behavior of a real-world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uttons on a form perform a task when click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objects are visible to the user – others are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reated from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ultiple objects can be created from the same class. For example, create multiple buttons on a 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blueprint (template) for an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uttons on a form created from the Button clas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oxes created from the TextBox clas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Technical View of a VB .NET Solut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h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edefined behaviors or settings calle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erties exist to define the size and position of a button on a form, for 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represent the actions an object can perfor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llow messages to be sent to a solu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code i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vent handl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so known as event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user clicks a button, statement in the corresponding event handler execu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Technical View of a VB .NET Solu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objects appearing on a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trol created on a form is called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 in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Butt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trol is a button the user can clic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trol displays text but cannot receive inpu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OpenFileDialo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trol displays a standard dialog box allowing user to select a fi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ictureBox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trol displays pictur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ol instances created from their respectiv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ple of VB .NET Control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462040" y="1247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FIG01-0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4863960" cy="5029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247032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2470320"/>
            <a:ext cx="281916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ol instance to display a descriptive prom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1752480"/>
            <a:ext cx="281916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ol instance to display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3156120"/>
            <a:ext cx="281916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ctureBo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ol instance to display graphical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4451400"/>
            <a:ext cx="281916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t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n clicked perform an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5105520"/>
            <a:ext cx="2819160" cy="973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FileDial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ol instance has no visual interface and appears in a tray at the bottom of the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905120" y="5486400"/>
            <a:ext cx="4114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752480" y="4876920"/>
            <a:ext cx="4267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52480" y="457164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971800" y="457164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67080" y="457164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343040" y="3429000"/>
            <a:ext cx="16765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905120" y="2743200"/>
            <a:ext cx="4114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05120" y="243792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029200" y="2057400"/>
            <a:ext cx="99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20574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419360" y="2362320"/>
            <a:ext cx="6094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ing VB .NET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FIG01-03" descr=""/>
          <p:cNvPicPr/>
          <p:nvPr/>
        </p:nvPicPr>
        <p:blipFill>
          <a:blip r:embed="rId1"/>
          <a:srcRect l="0" t="41634" r="38968" b="0"/>
          <a:stretch/>
        </p:blipFill>
        <p:spPr>
          <a:xfrm>
            <a:off x="990720" y="1447920"/>
            <a:ext cx="5638680" cy="4037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09680" y="5638680"/>
            <a:ext cx="1447920" cy="243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219320" y="5409720"/>
            <a:ext cx="0" cy="381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218960" y="5791320"/>
            <a:ext cx="990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3124080"/>
            <a:ext cx="3124440" cy="243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Visual Studio.NET 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3429000"/>
            <a:ext cx="0" cy="533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396252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about VB .NET and the characteristics of a VB .NET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and configure VB 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ore the elements of the development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how to access Hel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a VB .NET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ore the tool windows and operating modes of VB 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VB .NET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B .NET supports two operating m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abbed documents environme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ocked windows appear along edge of the MD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ocked windows can be temporarily hidde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loating windows appear anywhere on the deskto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indows can be autohidden along any edge of the MD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ultiple document interfa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ppearance similar to Exce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 used in this boo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VB .NET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Menu bar,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isplay Options dialog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General tab sets environment (tabbed documents or MDI mode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ojects and Solutions tab sets default folder for projects and when changes are sav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B .NET Options Dialog Box – General T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2224080" y="1962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FIG01-07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5562720" cy="3475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90720" y="2133720"/>
            <a:ext cx="129528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2362320"/>
            <a:ext cx="99072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048120"/>
            <a:ext cx="129528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page highligh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2514600"/>
            <a:ext cx="76212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2514600"/>
            <a:ext cx="0" cy="76212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286000" y="3276720"/>
            <a:ext cx="38088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B .NET Options Dialog Box – Projects and Solutions T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248520" cy="3911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391520" y="2438280"/>
            <a:ext cx="152388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pro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867280" y="2743200"/>
            <a:ext cx="152424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B .NET Window Type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014560" y="1333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FIG01-06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952960" cy="4878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781680" y="1523880"/>
            <a:ext cx="129564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k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1066680"/>
            <a:ext cx="152388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2286000"/>
            <a:ext cx="129564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hidd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3308400"/>
            <a:ext cx="129564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647960" y="1752480"/>
            <a:ext cx="1904760" cy="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1600200"/>
            <a:ext cx="0" cy="152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905120" y="1752480"/>
            <a:ext cx="1676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248160" y="2438280"/>
            <a:ext cx="5331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038480" y="3581280"/>
            <a:ext cx="27432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the Menu Ba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Toolb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regions display toolb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gions appear along any edge of the MD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dividual toolbars can be hidden or made visible depending on task at han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Customize dialog to configure toolbar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loa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olb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ppear anywhere on the desk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k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olb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chored along any edge of the M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ually they appear below the menu bar thoug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ked and Floating Toolb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043000" y="1362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FIG01-09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5057640" cy="4133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553080" y="1981080"/>
            <a:ext cx="144792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ked tool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4146480"/>
            <a:ext cx="144792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ing tool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4952880"/>
            <a:ext cx="1447920" cy="973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bars docked along bottom of M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9720" y="2133720"/>
            <a:ext cx="1143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495320" y="4419720"/>
            <a:ext cx="20574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419720" y="5486400"/>
            <a:ext cx="21333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5638680"/>
            <a:ext cx="266688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029200" y="5486040"/>
            <a:ext cx="0" cy="1522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 Windo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 on group tabs and correspond to the individual files that make up a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Win Form Design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used to create the user interfa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de Edito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used to write statements in event handler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nly one document window visible at a ti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lect window on group tab to activate desired document window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tons to the right of a group tab navigate between document windows and close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l Windo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tool windows are used in the creation of all VB .NET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olution Explor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groups all elements needed to build and run a solu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roperties window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llows developer to manage the appearance of each objec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Help windows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re also tool window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l windows can b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ocke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appearing along an edge of the MD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utohidde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hidden along an edge of the MD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loatin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appearing anywhere on the deskto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 Windows and Tool Windo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5105520" cy="4170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81680" y="2057400"/>
            <a:ext cx="1981440" cy="730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windows appear on tab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124080" y="2666880"/>
            <a:ext cx="106704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191120" y="2437920"/>
            <a:ext cx="0" cy="2286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91120" y="2438280"/>
            <a:ext cx="25905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2895480"/>
            <a:ext cx="198144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active document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3048120"/>
            <a:ext cx="2286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95680" y="2742840"/>
            <a:ext cx="0" cy="3049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4191120"/>
            <a:ext cx="1981440" cy="973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Explorer is a tool window (appearing as a docked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638320" y="4419720"/>
            <a:ext cx="1143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wnloads for Cour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he ‘Download Material for Course’ link on my homep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erials for the first 13 chapters are contained in the zip file ‘1658-2d1.exe’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zip to a new, working directory by double clicking on the 1658-2d1.ex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will cause a new subdirectory for each chapter in the book to be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with chapter 3, you will find 3 additonal subdirectories under each chap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Tool Window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 window float by right-clicking on the title bar and select Floa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hide a window by first docking the window. Right-click the title bar and select Autoh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k a window by right-clicking the title bar and select dockable. Drag the window to an edge of the M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gure windows as desired so that they best fit your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Tool Window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5029200" cy="4106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>
            <a:off x="3885840" y="2666880"/>
            <a:ext cx="106668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952880" y="2437920"/>
            <a:ext cx="0" cy="2286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2438280"/>
            <a:ext cx="18288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866920" y="3581280"/>
            <a:ext cx="1143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2286000"/>
            <a:ext cx="1981440" cy="243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ked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2895480"/>
            <a:ext cx="1981440" cy="973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hidden windows appear along an edge of the M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3124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ting Hel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B .NET supports four primary help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alphabetical list of conte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ntent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table of contents organized by topic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earch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locate topics by keywor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ynamic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Help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new to .NE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isplay topics based on active window and current task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pics that appear in the Dynamic Help window will change as you navigate from window to window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 filters restrict information displa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p – Ind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90720" y="1974960"/>
            <a:ext cx="4952880" cy="404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19520" y="4876920"/>
            <a:ext cx="380988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190760" y="3200400"/>
            <a:ext cx="25146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3124080"/>
            <a:ext cx="1981080" cy="243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715000" y="2666880"/>
            <a:ext cx="99072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2514600"/>
            <a:ext cx="1981080" cy="243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29400" y="4724280"/>
            <a:ext cx="1981080" cy="243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ble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p – Cont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4953240" cy="4044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495680" y="2971800"/>
            <a:ext cx="167652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3200400"/>
            <a:ext cx="1981440" cy="243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3276720"/>
            <a:ext cx="167616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2819520"/>
            <a:ext cx="1981440" cy="243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k expa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5257800" cy="42944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p –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2971800"/>
            <a:ext cx="198144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77120" y="5029200"/>
            <a:ext cx="1981080" cy="243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5181480"/>
            <a:ext cx="312444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2819520"/>
            <a:ext cx="1981080" cy="243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p – Dynamic Hel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4800600" cy="39211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495680" y="2971800"/>
            <a:ext cx="198144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77120" y="2819520"/>
            <a:ext cx="198108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mic Help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ing a VB .NET 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4496040" cy="28861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2819520" y="4571640"/>
            <a:ext cx="0" cy="6094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4343400"/>
            <a:ext cx="198144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solution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572000"/>
            <a:ext cx="35049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24480" y="3200400"/>
            <a:ext cx="1981440" cy="243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2971800"/>
            <a:ext cx="0" cy="3808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3352680"/>
            <a:ext cx="35049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5029200"/>
            <a:ext cx="1981440" cy="48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Open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5257800"/>
            <a:ext cx="60948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zation of a VB .NET 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file is at the heart of th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trols how solution will be translated into executable fi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trols how application will be distribut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ile suffix is .sl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file references one or more project files whic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tore global inform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ist the other files in the projec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ist references to namespac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s can contain multiple for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orm stored in a form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rm module contains code to create control instanc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lso contains code written by the developer to perform task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le suffix is .vb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o not change file suffix or VB .NET will not be able to locate fil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wnloads for Cours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directory ‘Complete’ contains the full code for the example program presented in the corresponding chap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directory ‘Startup’ contains the partial code for the example in the chapter. I strongly recommend that you complete the code by following the directions given in the boo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directory ‘Exercise’ contains the EXE files for all the homework problems, so that you can view the solution before doing any cod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a 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2932200" y="3436920"/>
            <a:ext cx="927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33600" y="2289240"/>
            <a:ext cx="1062000" cy="2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22880" y="2633760"/>
            <a:ext cx="2625840" cy="2617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modu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mMain.v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22880" y="2289240"/>
            <a:ext cx="2625840" cy="3016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modu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mDialog.v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22880" y="2965320"/>
            <a:ext cx="2625840" cy="2350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modu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sDemo.v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22880" y="3313080"/>
            <a:ext cx="2625840" cy="268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modu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dDemo.v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32200" y="2540160"/>
            <a:ext cx="0" cy="2770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22880" y="3665520"/>
            <a:ext cx="2625840" cy="3729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 folder contains compiled 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22880" y="4159080"/>
            <a:ext cx="2625840" cy="412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 folder contains temporary 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68720" y="5197320"/>
            <a:ext cx="1493640" cy="2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86280" y="2382840"/>
            <a:ext cx="0" cy="1976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86280" y="2382840"/>
            <a:ext cx="336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86280" y="2743200"/>
            <a:ext cx="336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86280" y="3090960"/>
            <a:ext cx="336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86280" y="3436920"/>
            <a:ext cx="336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86280" y="3865680"/>
            <a:ext cx="336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86280" y="4359240"/>
            <a:ext cx="336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62360" y="3436920"/>
            <a:ext cx="223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22880" y="4794120"/>
            <a:ext cx="1839960" cy="2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22880" y="5197320"/>
            <a:ext cx="1839960" cy="2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n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22880" y="5600880"/>
            <a:ext cx="1839960" cy="250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32200" y="5310360"/>
            <a:ext cx="2365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62360" y="5310360"/>
            <a:ext cx="223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86280" y="4911840"/>
            <a:ext cx="0" cy="811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86280" y="4911840"/>
            <a:ext cx="336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86280" y="5310360"/>
            <a:ext cx="336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86280" y="5722920"/>
            <a:ext cx="336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3200400"/>
            <a:ext cx="16765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fi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01.vbpro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olution Explor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s projec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dul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ising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2752560" y="1290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629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Window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y is a characteristic of an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lor, caption, screen loc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properties using the Properties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ame column lists propert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column contains current valu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isplay properties alphabetically or by categor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scription of selected appears at the bottom of the window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escription section may be hidde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Window (2)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3187440" cy="4572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562720" y="1600200"/>
            <a:ext cx="23619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 lis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581280" y="2362320"/>
            <a:ext cx="19814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38480" y="1752480"/>
            <a:ext cx="15242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19520" y="3276720"/>
            <a:ext cx="29718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2895480"/>
            <a:ext cx="243828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ed Font property has sub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5486400"/>
            <a:ext cx="236232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29000" y="5638680"/>
            <a:ext cx="22860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209680"/>
            <a:ext cx="23619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bar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81280" y="19051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l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5105160" cy="4170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990720" y="2895480"/>
            <a:ext cx="23619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ual controls appear in the Tool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352680" y="32004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rating 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operating m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run mode VB .NET is executing the progra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Program appears as the user will see i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design mode you assume the role of the develop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break mode solution is temporarily suspend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Use for debugging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Refer to Appendix A for information on debugging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nning a 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s Start button on the Debug tool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olution runs as the user will see i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s Stop Debugging button on the Debug toolbar to end the solution and return to design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ing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Studio .NET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Studio .NET is an integrated development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 environment supports three different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isual Basic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isual C++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# (pronounced C sharp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New to Visual Studio .NE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e that Visual Interdev is obsolete. Functionality included with other Visual Studio .NET produc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ing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Studio.NET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s (called solutions) developed using a developer interface calle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crosoft Development Environment (M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B .NET supports different types of applications created with the following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Windows Forms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d to create desktop applica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Web Forms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d to create programmable Web pag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Web Services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ocess client – server reques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ces Between VB 6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Visual Studio .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B 4, 5, and 6 were backward compat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B .NET is not backward compati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B 6 programs require significant modification to run under VB .NE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B .NET incorporates new object oriented programming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B .NET adheres to the Common Language Specification (CLS) for language interoper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O.NET replaces 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DO.NET operates better with Web applica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s About Programming Languag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up of words forming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es a complete thought or id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imilar to an English senten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 grouped in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procedure is similar to a paragraph in Englis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s grouped into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odules contain one or more procedur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odules correspond to physical disk fil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odule files have the suffix .vb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s About Programming Languag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gram contains statements, grouped into procedures, in one or mor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B .NET calls a program a solu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olution is stored in its own f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olution folder contains sub fold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olution folder contains all of the files that make up the solu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Joel Carissimo</cp:lastModifiedBy>
  <dcterms:modified xsi:type="dcterms:W3CDTF">2003-09-01T20:34:09Z</dcterms:modified>
  <cp:revision>914</cp:revision>
  <dc:subject/>
  <dc:title>CHAPTER 1</dc:title>
</cp:coreProperties>
</file>