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92215-D0A1-4717-ADA5-FF941B604D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97F55-0A7C-4B0B-8866-D3120DA0E8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379E2-BA74-4256-88C7-26DA16BF75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75227-CCB7-45B9-82B3-F9388FCB4C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6A0C07-06CA-412C-8668-9867A76D8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6F2B3E-39F0-4647-80F5-8565A7314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625C3D-409A-4DE8-81C4-F1F09461B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3235A4-B2BF-457F-94D2-F1124D968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FDE81D-F726-46C0-ACA5-B5477653A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3EC510-82E5-4C43-B177-E7AB8A0D6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D3301F-D1DA-4CC7-978C-A32116E9D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7D414-D8A8-4993-BDB3-3C0EE33DBD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E42F3B-AB22-45DD-9C6E-137A649F4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779B17-EF1A-4BEE-8F46-CA1E0989B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B91A74-9040-4771-9AE4-3FA6C786C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78C8E1-330B-4367-BF63-79691BC9D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87EEEB-B2DD-4ABE-9229-42C6CBE5D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B4AB8-2E93-415C-90DF-049DDE6963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EAB4A-09F1-4D03-AC96-A1D2B6D798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03C78-2837-46D3-9F51-010716AB90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086BB-8D27-454B-89D2-EE4C83E78F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08CAA-F284-4BDB-9013-4628FB6F3B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99326-3374-45E5-A210-936C1F3C2B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CD7A1-F127-4D7B-A815-50BF99692C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D7E5E-440C-480D-BCD2-78026ABC6AE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48520"/>
            <a:ext cx="6934320" cy="60948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Programming with Visual Basic 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An Object-Oriented Approach</a:t>
            </a:r>
            <a:r>
              <a:rPr b="1" lang="en-US" sz="1400" spc="-1" strike="noStrike">
                <a:solidFill>
                  <a:srgbClr val="3333cc"/>
                </a:solidFill>
                <a:latin typeface="Symbol"/>
                <a:ea typeface="Symbol"/>
              </a:rPr>
              <a:t>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32448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848720" y="914400"/>
            <a:ext cx="1295280" cy="22860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952880" y="0"/>
            <a:ext cx="4191120" cy="2286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6095880" y="457200"/>
            <a:ext cx="3048120" cy="22860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7238880" y="685800"/>
            <a:ext cx="1905120" cy="228600"/>
          </a:xfrm>
          <a:prstGeom prst="rect">
            <a:avLst/>
          </a:prstGeom>
          <a:gradFill rotWithShape="0">
            <a:gsLst>
              <a:gs pos="0">
                <a:srgbClr val="00cc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5715000" y="228600"/>
            <a:ext cx="3429000" cy="22860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 rot="41400">
            <a:off x="-1080" y="6582960"/>
            <a:ext cx="10666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Slide </a:t>
            </a:r>
            <a:fld id="{D7E61694-B419-45A7-B77B-D54780547088}" type="slidenum">
              <a:rPr b="1" lang="en-US" sz="1200" spc="-1" strike="noStrike">
                <a:solidFill>
                  <a:srgbClr val="33339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800280" y="1098720"/>
            <a:ext cx="72360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228600" y="1905120"/>
            <a:ext cx="533520" cy="4572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"/>
          <p:cNvSpPr/>
          <p:nvPr/>
        </p:nvSpPr>
        <p:spPr>
          <a:xfrm flipH="1">
            <a:off x="685080" y="228600"/>
            <a:ext cx="27000" cy="601992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" name="newlogo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639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90520" y="2546280"/>
            <a:ext cx="230040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99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1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2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3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4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1BFB9-68A9-4A57-BC57-67884D11328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6248520"/>
            <a:ext cx="6934320" cy="60948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Programming with Visual Basic 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An Object-Oriented Approach</a:t>
            </a:r>
            <a:r>
              <a:rPr b="1" lang="en-US" sz="1400" spc="-1" strike="noStrike">
                <a:solidFill>
                  <a:srgbClr val="3333cc"/>
                </a:solidFill>
                <a:latin typeface="Symbol"/>
                <a:ea typeface="Symbol"/>
              </a:rPr>
              <a:t>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457200" cy="632448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477120" y="914400"/>
            <a:ext cx="2666880" cy="22860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66680" y="0"/>
            <a:ext cx="8077320" cy="2286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572000" y="457200"/>
            <a:ext cx="4572000" cy="22860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334120" y="685800"/>
            <a:ext cx="3809880" cy="228600"/>
          </a:xfrm>
          <a:prstGeom prst="rect">
            <a:avLst/>
          </a:prstGeom>
          <a:gradFill rotWithShape="0">
            <a:gsLst>
              <a:gs pos="0">
                <a:srgbClr val="00cc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95480" y="228600"/>
            <a:ext cx="6248520" cy="228600"/>
          </a:xfrm>
          <a:prstGeom prst="rect">
            <a:avLst/>
          </a:prstGeom>
          <a:gradFill rotWithShape="0">
            <a:gsLst>
              <a:gs pos="0">
                <a:srgbClr val="ff33c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895480"/>
            <a:ext cx="411480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52280" y="3200400"/>
            <a:ext cx="5637240" cy="474840"/>
            <a:chOff x="152280" y="3200400"/>
            <a:chExt cx="5637240" cy="474840"/>
          </a:xfrm>
        </p:grpSpPr>
        <p:sp>
          <p:nvSpPr>
            <p:cNvPr id="69" name=""/>
            <p:cNvSpPr/>
            <p:nvPr/>
          </p:nvSpPr>
          <p:spPr>
            <a:xfrm>
              <a:off x="152280" y="3200400"/>
              <a:ext cx="3220920" cy="47484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970000" y="3200400"/>
              <a:ext cx="2819520" cy="474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f0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"/>
          <p:cNvSpPr/>
          <p:nvPr/>
        </p:nvSpPr>
        <p:spPr>
          <a:xfrm flipV="1">
            <a:off x="316080" y="3260520"/>
            <a:ext cx="8692920" cy="55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09480" y="2438280"/>
            <a:ext cx="36720" cy="365760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newlogo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6397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57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ahoma"/>
              </a:rPr>
              <a:t>Chapter 9</a:t>
            </a:r>
            <a:endParaRPr b="1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Working with Multiple Database Table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troduction to a DataSet Rel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generating a DataSet, VB .NET creates a schema definition 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ile has a suffix of .xsd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e .xsd file is an XML documen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XML Designer to edit the file either visually or by editing the XML direc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chema Definition File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6" name="FIG09-04" descr=""/>
          <p:cNvPicPr/>
          <p:nvPr/>
        </p:nvPicPr>
        <p:blipFill>
          <a:blip r:embed="rId1"/>
          <a:stretch/>
        </p:blipFill>
        <p:spPr>
          <a:xfrm>
            <a:off x="1523880" y="1219320"/>
            <a:ext cx="6948720" cy="44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troduction to Constrai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nstraint is a database rule that cannot be vi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Constraints can prohibit a record from being created in a detail table without a corresponding record in the master table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Constraints can prohibit a record from being deleted in a master table when corresponding records exist in a detail table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Microsoft Access supports constraints through relationships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These constraints do not cascade to the DataSet however. You must create them in VB .NET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XML Design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Schema Definition File (XSD) gets generated when you generate the Data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XML designer allows you to edit the XSD file in a visual way (You can also edit the XML directl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e DataSet tables appear in the XML Designer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Any relations also appear in the XML Designer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spcBef>
                <a:spcPts val="57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Relations appear as lines connecting two tables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XML Design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(Illustratio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2" name="fig09-05" descr=""/>
          <p:cNvPicPr/>
          <p:nvPr/>
        </p:nvPicPr>
        <p:blipFill>
          <a:blip r:embed="rId1"/>
          <a:stretch/>
        </p:blipFill>
        <p:spPr>
          <a:xfrm>
            <a:off x="990720" y="1981080"/>
            <a:ext cx="7238880" cy="42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reating a Re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ditRelation Dialog box allows you to create a re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text box defines the relation name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Parent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element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Child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element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list box define the two tables that will be related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Key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list box defines the key from the master side of the relationship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Fields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section contains common fields from master and detail tables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Update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rule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Delete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rule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, and </a:t>
            </a: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Accept/Reject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rule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controls what happens when key of master record is updated or the master record is deleted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 Relation Dialog Box (Illustratio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6" name="FIG09-06" descr=""/>
          <p:cNvPicPr/>
          <p:nvPr/>
        </p:nvPicPr>
        <p:blipFill>
          <a:blip r:embed="rId1"/>
          <a:stretch/>
        </p:blipFill>
        <p:spPr>
          <a:xfrm>
            <a:off x="4191120" y="1066680"/>
            <a:ext cx="4730760" cy="493236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7543800" y="2590920"/>
            <a:ext cx="0" cy="533160"/>
          </a:xfrm>
          <a:prstGeom prst="line">
            <a:avLst/>
          </a:prstGeom>
          <a:ln w="936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2971800" y="2514600"/>
            <a:ext cx="1295280" cy="0"/>
          </a:xfrm>
          <a:prstGeom prst="line">
            <a:avLst/>
          </a:prstGeom>
          <a:ln w="936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657240" y="3124080"/>
            <a:ext cx="38862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1905120"/>
            <a:ext cx="2057400" cy="304560"/>
          </a:xfrm>
          <a:prstGeom prst="rect">
            <a:avLst/>
          </a:prstGeom>
          <a:solidFill>
            <a:srgbClr val="ccffff"/>
          </a:solidFill>
          <a:ln w="9360">
            <a:solidFill>
              <a:srgbClr val="333399"/>
            </a:solidFill>
            <a:miter/>
          </a:ln>
          <a:effectLst>
            <a:outerShdw dist="53966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ation n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600200" y="2438280"/>
            <a:ext cx="2057400" cy="304920"/>
          </a:xfrm>
          <a:prstGeom prst="rect">
            <a:avLst/>
          </a:prstGeom>
          <a:solidFill>
            <a:srgbClr val="ccffff"/>
          </a:solidFill>
          <a:ln w="9360">
            <a:solidFill>
              <a:srgbClr val="333399"/>
            </a:solidFill>
            <a:miter/>
          </a:ln>
          <a:effectLst>
            <a:outerShdw dist="53966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ster table n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600200" y="2971800"/>
            <a:ext cx="2057400" cy="304920"/>
          </a:xfrm>
          <a:prstGeom prst="rect">
            <a:avLst/>
          </a:prstGeom>
          <a:solidFill>
            <a:srgbClr val="ccffff"/>
          </a:solidFill>
          <a:ln w="9360">
            <a:solidFill>
              <a:srgbClr val="333399"/>
            </a:solidFill>
            <a:miter/>
          </a:ln>
          <a:effectLst>
            <a:outerShdw dist="53966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ail table n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600200" y="3581280"/>
            <a:ext cx="2057400" cy="304920"/>
          </a:xfrm>
          <a:prstGeom prst="rect">
            <a:avLst/>
          </a:prstGeom>
          <a:solidFill>
            <a:srgbClr val="ccffff"/>
          </a:solidFill>
          <a:ln w="9360">
            <a:solidFill>
              <a:srgbClr val="333399"/>
            </a:solidFill>
            <a:miter/>
          </a:ln>
          <a:effectLst>
            <a:outerShdw dist="53966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nk fiel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3657600" y="3657600"/>
            <a:ext cx="838080" cy="0"/>
          </a:xfrm>
          <a:prstGeom prst="line">
            <a:avLst/>
          </a:prstGeom>
          <a:ln w="936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DataGrid Control (Introductio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lays data in the form of rows and columns much like Access displays a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Intersection of a row and column is called a </a:t>
            </a:r>
            <a:r>
              <a:rPr b="1" lang="en-US" sz="2500" spc="-1" strike="noStrike">
                <a:solidFill>
                  <a:srgbClr val="000000"/>
                </a:solidFill>
                <a:latin typeface="Tahoma"/>
              </a:rPr>
              <a:t>cel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ind the DataGrid, set the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ataSourc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property to a Data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the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ataMem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property to a table in the Data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DataGrid Control (Properties 1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BackColo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property defines the background color of the cells in the gri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BackGroundColo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property defines the foreground and background colors of the caption appearing at the top of the gri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aptionVisibl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property controls whether caption is visible or no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aptionTex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ontains text appearing in the ca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urrentRowInde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efines the 0-based index of the selected row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ataMem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efines the navigation path to a table in the Data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ataSe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property defines the DataSet or DataT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DataGrid Control (Properties 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ridLineColo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ridLineStyl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properties define the color and style of the lines that divide each c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HeaderForeColo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HeaderBackColo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properties define the text and background colors of the header colum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rentRowsBackColo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rentRowsForeColo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properties define the color of parent ro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ReadOnl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property defines whether the user can update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ableStyl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property is used for custom forma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bjectiv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stand master-detail relationsh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d control instances to display multiple rows from a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 a DataSet re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d DataGrid contr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e two DataGri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 DataSet changes back to a 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at a DataGr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vigate through a DataSet and Data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DataGrid Control (Methods and Event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t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 gets or sets the value of a specific c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ginEdi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ndEdi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s enable and disable e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llaps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 collapses one or all child rows in a master-detail relationsh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pan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 expands child rows in a master-detail relationsh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urrentCellChang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event occurs when a user selects a different cell in the DataGr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atomy of the DataGri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4" name="FIG09-07" descr=""/>
          <p:cNvPicPr/>
          <p:nvPr/>
        </p:nvPicPr>
        <p:blipFill>
          <a:blip r:embed="rId1"/>
          <a:stretch/>
        </p:blipFill>
        <p:spPr>
          <a:xfrm>
            <a:off x="1600200" y="1905120"/>
            <a:ext cx="7543800" cy="377964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 flipH="1">
            <a:off x="2590920" y="2286000"/>
            <a:ext cx="457200" cy="0"/>
          </a:xfrm>
          <a:prstGeom prst="line">
            <a:avLst/>
          </a:prstGeom>
          <a:ln w="936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33520" y="2133720"/>
            <a:ext cx="20574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333399"/>
            </a:solidFill>
            <a:miter/>
          </a:ln>
          <a:effectLst>
            <a:outerShdw dist="53966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ptionText property appears in title b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886200" y="2590920"/>
            <a:ext cx="0" cy="761760"/>
          </a:xfrm>
          <a:prstGeom prst="line">
            <a:avLst/>
          </a:prstGeom>
          <a:ln w="936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33520" y="3048120"/>
            <a:ext cx="20574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333399"/>
            </a:solidFill>
            <a:miter/>
          </a:ln>
          <a:effectLst>
            <a:outerShdw dist="53966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umn headers display column nam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2590920" y="3352680"/>
            <a:ext cx="129528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572000" y="2666880"/>
            <a:ext cx="0" cy="1524240"/>
          </a:xfrm>
          <a:prstGeom prst="line">
            <a:avLst/>
          </a:prstGeom>
          <a:ln w="936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3886200"/>
            <a:ext cx="20574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333399"/>
            </a:solidFill>
            <a:miter/>
          </a:ln>
          <a:effectLst>
            <a:outerShdw dist="53966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2590560" y="4191120"/>
            <a:ext cx="198108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inding DataGrid Contro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process is similar to binding a list box or combo bo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Do not define the navigation path to a particular field because the DataGrid control displays all fields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ypically, bind the DataGrid to the DataRelation in a one-to-many scenario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aving DataSet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DataSet and DataGrid are b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process to save data is similar to simple bound contr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irst, get the added, changed, or deleted records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cond, update the changes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inally, call AcceptChanges on the DataAdapter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aving the DataSet Changes (Exampl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"/>
          <p:cNvSpPr/>
          <p:nvPr/>
        </p:nvSpPr>
        <p:spPr>
          <a:xfrm>
            <a:off x="1066680" y="1905120"/>
            <a:ext cx="9144000" cy="44499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Dim pdsInsertedRows As DataSe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Dim pdsModifiedRows As DataSe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Dim pdsDeletedRows As DataSe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pdsInsertedRows = DsCustomersTransactionsBind11. _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GetChanges(DataRowState.Added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pdsModfiedRows = DsCustomersTransactionsBind11. _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GetChanges(DataRowState.Modified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pdsDeletedRows = DsCustomersTransactionsBind11. _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GetChanges(DataRowState.Deleted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f Not pdsInsertedRows Is Nothing The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odbdaTransactionsBind1.Update(pdsInsertedRows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 If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f Not pdsModifiedRows Is Nothing The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odbdaTransactionsBind1.Update(pdsModifiedRows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 If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f Not pdsDeletedRows Is Nothing The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odbdaTransactionsBind1.Update(pdsDeletedRows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 If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sCustomersTransactionsBind11.AcceptChanges()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ormatting the DataGrid (Introductio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DataGridTableStyle class represents the visual table drawn in a DataGrid control instance at ru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Its purpose is to define the appearance of the DataGrid while the program runs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tandard prefix is "dgts"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ataGridTableStyle (Properti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826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lternatingBackColo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property defines the background color of alternating ro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BackColo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oreColo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properties define background and text color of ce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ridLineColo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efines the color of the lines that divide the ce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appingNam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property contains a text string that maps the table to a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ataSourc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more la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RowHeadersVisibl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property controls whether row headers are visi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RowHeaderWidth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property defines the width of the row head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lectionForeColo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lectionBackColo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properties define the text and background color of the currently selected row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reating a DataGridTableStyle Ob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an instance of the DataGridTableStyle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the desired proper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the mapping n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Mapping name contains the name of the table 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Use the TableName property of the DataTable objec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the DataGridTableStyle to the TableStyles Collection of the DataGri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reating a DataGridTableStyle (Exampl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6" name=""/>
          <p:cNvSpPr/>
          <p:nvPr/>
        </p:nvSpPr>
        <p:spPr>
          <a:xfrm>
            <a:off x="762120" y="2379600"/>
            <a:ext cx="8381880" cy="33858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im dgtsTransactions As New DataGridTableStyle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gtsTransactions.AlternatingBackColor = Color.LightB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gtsTransactions.GridLineColor = Color.Sil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gtsTransactions.GridLineStyle = DataGridLineStyle.Sol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gtsTransactions.SelectionForeColor = Color.B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gtsTransactions.SelectionBackColor = Color.Sil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gtsTransactions.MappingName = 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sCustomersTransactionsBind11.tblTransactions.Table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gTransactions.TableStyles.Add(dgtsTransactions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GridColumnStyle Class (Introductio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s a customized view or format for a colum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instance exists for each colum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HeaderText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property allows you to change the text appearing in a column header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Alignment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property left justifies, right justifies, or centers text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Width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property controls the column width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element is automatically added to the GridColumnStyles collection when the TableStyles are added to the DataGr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Master-Detail Relationships (Overview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curs when a single record in one table corresponds to several records in another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Master-detail relationships are often called one-to many relationships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field links data between the two 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One employee (master) has several payroll records (detail)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One credit card (master) may have several transactions (detail)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ataGridColumnStyle Relationship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90" name="FIG09-09" descr=""/>
          <p:cNvPicPr/>
          <p:nvPr/>
        </p:nvPicPr>
        <p:blipFill>
          <a:blip r:embed="rId1"/>
          <a:stretch/>
        </p:blipFill>
        <p:spPr>
          <a:xfrm>
            <a:off x="1143000" y="2819520"/>
            <a:ext cx="4444920" cy="309852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 flipV="1">
            <a:off x="1752480" y="2209320"/>
            <a:ext cx="0" cy="838440"/>
          </a:xfrm>
          <a:prstGeom prst="line">
            <a:avLst/>
          </a:prstGeom>
          <a:ln w="936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1905120"/>
            <a:ext cx="20574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333399"/>
            </a:solidFill>
            <a:miter/>
          </a:ln>
          <a:effectLst>
            <a:outerShdw dist="53966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idColumnStyles(0) is the first colum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752480" y="2209680"/>
            <a:ext cx="9144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410080" y="1905120"/>
            <a:ext cx="20574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333399"/>
            </a:solidFill>
            <a:miter/>
          </a:ln>
          <a:effectLst>
            <a:outerShdw dist="53966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aderText =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ignment = Cen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4723920" y="2209680"/>
            <a:ext cx="685800" cy="0"/>
          </a:xfrm>
          <a:prstGeom prst="line">
            <a:avLst/>
          </a:prstGeom>
          <a:ln w="9360">
            <a:solidFill>
              <a:srgbClr val="33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ataGridColumnStyle (Exampl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7" name=""/>
          <p:cNvSpPr/>
          <p:nvPr/>
        </p:nvSpPr>
        <p:spPr>
          <a:xfrm>
            <a:off x="838080" y="3110040"/>
            <a:ext cx="8305920" cy="11912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gtsTransactions.GridColumnStyles(0).HeaderText = "Account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gtsTransactions.GridColumnStyles(0).Alignment = 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orizontalAlignment.Center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orking with Database Objec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Set contains one or more DataTabl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ataTable contains DataRow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objects can be accessed program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se objects so as t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navigate between records 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calculate totals 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perform other tasks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termining Rows in a Tab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Table supports a collection named R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ws collection in turn has a Count property containing the number of r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Example: assume DsCustomersTransaction11 is a DataSet, and tblCustomers is the DataTable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"/>
          <p:cNvSpPr/>
          <p:nvPr/>
        </p:nvSpPr>
        <p:spPr>
          <a:xfrm>
            <a:off x="1447920" y="4952880"/>
            <a:ext cx="8458200" cy="9169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im pintRows As Inte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intRows = 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sCustomersTransactions11.tblCustomers.Rows.Coun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ining all Rows in a DataTab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a total of the field named fldAmount by examining all table r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3505320"/>
            <a:ext cx="7620120" cy="17398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im pintCount As Inte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im pdblTotal As Dou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pintCount = 0 To dtTransactions.Rows.Count -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dblTotal </a:t>
            </a:r>
            <a:r>
              <a:rPr b="1" lang="en-US" sz="1800" spc="-1" strike="noStrike">
                <a:solidFill>
                  <a:srgbClr val="800080"/>
                </a:solidFill>
                <a:latin typeface="Courier New"/>
                <a:ea typeface="Courier New"/>
              </a:rPr>
              <a:t>+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tTransactions.Rows(pintCount).Item("fldAmount"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ex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orking with Child Rows in a DataRelation (Introductio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 with the child rows so as to get child rows for a particular master record in a  master-detail relation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GetChildRow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method takes a DataRelation as its argument and returns an array of DataRow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Array contains detail (child) records for a particular master record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GetChildRows methods applies to a DataTable objec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etChildRows Method (Syntax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verload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unc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GetChildRow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(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yVa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elationnam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tr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)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ataR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Tahoma"/>
              </a:rPr>
              <a:t>relationname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 contains the name of a DataRelation objec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Method returns and array of DataRow objects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etChildRows Method (Exampl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 the child rows for the first master record in tblCustomers. DataRelation name is DsCustomersTransactionsBind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"/>
          <p:cNvSpPr/>
          <p:nvPr/>
        </p:nvSpPr>
        <p:spPr>
          <a:xfrm>
            <a:off x="1143000" y="3657600"/>
            <a:ext cx="8001000" cy="11912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im drArray() As Data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rArray = DsCustomersTransactionsBind11. 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blCustomers(0). 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etChildRows(drtblCustomerstblTransactions)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Master-Detail Relationships (Exampl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8" name="FIG09-03" descr=""/>
          <p:cNvPicPr/>
          <p:nvPr/>
        </p:nvPicPr>
        <p:blipFill>
          <a:blip r:embed="rId1"/>
          <a:stretch/>
        </p:blipFill>
        <p:spPr>
          <a:xfrm>
            <a:off x="3352680" y="2057400"/>
            <a:ext cx="5426280" cy="36385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 flipH="1">
            <a:off x="2590560" y="2666880"/>
            <a:ext cx="990360" cy="0"/>
          </a:xfrm>
          <a:prstGeom prst="line">
            <a:avLst/>
          </a:prstGeom>
          <a:ln w="936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2514600"/>
            <a:ext cx="20574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333399"/>
            </a:solidFill>
            <a:miter/>
          </a:ln>
          <a:effectLst>
            <a:outerShdw dist="53966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stomer 222883 (mast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2590920" y="4114800"/>
            <a:ext cx="1828800" cy="0"/>
          </a:xfrm>
          <a:prstGeom prst="line">
            <a:avLst/>
          </a:prstGeom>
          <a:ln w="936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33520" y="3962520"/>
            <a:ext cx="2057400" cy="914400"/>
          </a:xfrm>
          <a:prstGeom prst="rect">
            <a:avLst/>
          </a:prstGeom>
          <a:solidFill>
            <a:srgbClr val="ccffff"/>
          </a:solidFill>
          <a:ln w="9360">
            <a:solidFill>
              <a:srgbClr val="333399"/>
            </a:solidFill>
            <a:miter/>
          </a:ln>
          <a:effectLst>
            <a:outerShdw dist="53966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actions for customer 222883 (detai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guring DataSets with Multiple Tab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one Connection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one DataAdapter for each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 DataSet for each DataAdap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steps to create a connection and DataAdapter are the same as discussed in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SELECT Statement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(Syntax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select records from a database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LEC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*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RO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tablenam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[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nditionlis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] [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RD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field1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[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SC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|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ESC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] ] [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field2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[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SC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|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ESC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] ]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SELECT Statement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(Syntax Analysi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tatement retrieves one or more rows from a database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keyword an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ablen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efine the table from which rows will be sel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use an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onditionlist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trict the rows that are sel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RD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use controls how rows are sor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ASC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sorts rows in ascending order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DESC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sorts rows in descending order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LECT Statement (Exampl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 all records from the table named tblCustom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LECT * FROM tblCustomers ORDER BY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ldLast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 specific fields from tblCustom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LECT fldLastName, fldFirstName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blCustomers ORDER BY fldLast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troduction to Complex Binding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lex bound controls display multiple rows instead of a single r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ListBox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ComboBox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, and </a:t>
            </a: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DataGrid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are all complex bound controls because they display data from multiple rows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Set the </a:t>
            </a: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DataSource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property to the name of the DataSet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Set the </a:t>
            </a: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DisplayMember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property to the navigation path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524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Navigation path typically contains the table name followed by the field name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1T00:26:29Z</dcterms:created>
  <dc:creator>Michael V. Ekedahl</dc:creator>
  <dc:description/>
  <dc:language>en-US</dc:language>
  <cp:lastModifiedBy>New User</cp:lastModifiedBy>
  <dcterms:modified xsi:type="dcterms:W3CDTF">2002-07-15T16:47:00Z</dcterms:modified>
  <cp:revision>896</cp:revision>
  <dc:subject/>
  <dc:title>CHAPTER 1</dc:title>
</cp:coreProperties>
</file>