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74A1-E886-4EBE-AF6B-6A460D04E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A519-DE56-4EE9-AC10-6D1E32CEC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55B0-7475-4471-9145-6C173CE9A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0611-3B5E-45E4-A517-371C9EDE2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B543-79BF-4DE7-99DE-79755DB9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A7C96-E15B-4A02-952F-E8F7402C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3DBB-8032-4345-93B1-A14AB162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EADEA-C40F-4CF7-8E5D-950544D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A5633-E649-49B1-8C85-810ABE7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20FEB-A56B-4973-8576-C2BF4A8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216D2-48FB-479D-B2FF-8EB3412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C3DF-FAC9-4375-BBC7-78AD6702D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0D51-431D-4027-9606-A035593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63C42-A653-4974-8A76-21F09FF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6D6F-2CF4-4CA0-BDBA-ED46CD64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8AABC-D872-44A6-B5C8-5A30E3E5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FA2F5-1F62-4B28-8252-CB4086C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01C7-CDF2-487D-A169-4D909F349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C11B-AD59-416B-A32C-9A8A470BE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8A58-2AA6-4677-B1EB-4AC9F9EB7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30AC-0EB8-40F3-AB15-E124461A7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72A6-7D40-4C14-9283-8AFFE11E7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DBC7-7910-4F53-A240-ED403186A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F47A-3D2F-440A-AA77-CFB397326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2674-4CB5-4611-8C84-9A42EF840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6944F187-552D-49C7-B940-912A1B12702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CD7-A2FB-4781-BD66-A9F62D78F7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idating Input with Strings and Func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Character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in the text box named txtOutput a string. The string will appear on two lines because of the CrLf const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Output.Text = "John" &amp;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rolchars.CrLf &amp; "Brow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Empty St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empty string by using a literal value or the NullChar const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strEmpty = ""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strEmpty = ControlChars.NullCha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icatio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o validate input data to make sure it is plau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unction checks whether the argument can be converted to a 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Numer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unction checks whether the argument can be converted to a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functions take one argument (typically a string) and return a Boolean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f the value can be conv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f the value cannot be conv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unctions do not convert the data. They merely determine whether data can be conv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trying to convert a string to a numeric or date value, validate the value by calling IsDate or IsNume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ication Function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sts that a value contains a dat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ul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Num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sts that a value contains a number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ult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Objec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ication Functions (Example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mstrCurrent can be converted to a string or date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Current As String,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blnResult As Boolea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Current = "123.45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blnResult = IsNumeric(mstrCurrent) ' Tr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blnResult = IsDate(mstrCurrent) '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ication Functions (Example 2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ication functions are most often used in decision ma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he string to a Double only if the string contains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Value As 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strInput As String = "1344A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IsNumeric(mstrInput)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blValue = System.Convert.ToDouble(mdbl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ngth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es to the String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ngth property returns the number of characters in 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characters are counted including spaces and control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string is empty, Length has a value of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following statements, the length the string (mstrName) has 12 characters so mintLen contains the value 1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Name As String = "Mr. Ed Jone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intLen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tLen = mstrName.Length ' 12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rConv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s a string to a standard 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Con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vers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VbStrCon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the string to con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version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is one of UpperCase, LowerCase, or Proper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stants belong to the VbStrConv enumeration of the Microsoft.VisualBasic namesp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verted string is stored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rConv Function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ize the first letter or each word using a liter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 produ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r. Ed Jon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xtName.Text = StrConv("mr. ed jones", _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bStrConv.ProperC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Of Method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es to the String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Of method determines whether a string contains a particular sub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s the InStr function found in VB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is overloaded and has the following syntax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rt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guidelines for input va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variables having the String dat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classification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e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Validating 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variable lifetime and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general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nc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ub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uses of the MessageBox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Of Metho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quired first argument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ntains the sub string being search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ptional second argument 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tinde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ntains the character position where the search be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omitted, searching begins at the first character posi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startinde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0-bas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exOf method returns the character position where the sub string wa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character position returned is 0-based so the first character position has a value of 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the sub string is not found, IndexOf returns -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Of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Of returns position 8 in the following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member that all positions are 0-ba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mintFound As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mintStates As String = _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"Arizona California Nevada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intFound = mstrState.IndexOf("California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string Method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string method applies to the Str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String method extracts a sub string from anoth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he Mid function found in VB 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art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art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string Metho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startinde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gument contains the character position of the first character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Startindex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0-ba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gument determines number of characters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mitted, then the sub string returned starts 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startinde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returns characters through the end of the str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string Method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 10 characters from a string starting at position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turns "California"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Result As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States As String =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"Arizona California Nevada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Result = mstrStates.Substring(8, 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Validating Ev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Validating event handler to check the validity of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Validating event is supported by all controls that can get foc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Validating event fires just before the Leave event fir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Validating Event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e that the length of a text box is between 1 and 20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200400"/>
            <a:ext cx="7543800" cy="3111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ub txtFirstName_Validating(ByVal sender As Object, ByVal e As System.EventArgs) Handles txtFirstName.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txtFirstName.Text.Length &gt;= 1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txtFirstName.Text.Length &lt;= 2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blInvalidFirstName.Visible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blInvalidFirstName.Visible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696080" y="327636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Lifetim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Scope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s when VB .NET creates and destroys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s which procedures can use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ariables have both a lifetime and a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Life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ree life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a solution ru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a form is load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odule-level variables declared in a form (clas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Variables declared with the Static keyword in a procedu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a procedure is execut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Local variables declared in a procedu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Sc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lobal variables declared with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 are available to all modules and all proced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-level variables declared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 are available only to the class containing the decla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 variables declared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i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 inside of a procedure can only used by the procedure containing the decla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is destroyed from one procedure call to the n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variables declared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 inside of a procedure can only be used by the procedure containing the decla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persists from one procedure call to the n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Input Vali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ate input to check that it is correct or at least plau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types of input can be vali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ate data that must contain a number or a da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ate data that must fall within some range such as a person’s 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ome data has a particular format such as a Social Security number or credit card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format can be valida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ome character strings should have a minimum or maximum leng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not all data can be validated, how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osing the Correc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ope and Life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ocal variables when a single event handler uses the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local variables in different procedures can have the same name. They are different variables though and occupy different memory lo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ule-level variables when a variable needs to be shared by 2 or more procedures in a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global variables to share data in multiple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 Level Sc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.NET adds the ability to create variables that are visible only within a blo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lock is any section of code that ends with one of the words End, Loop, or N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ns that For…Next and If…End If blocks can have their own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within a loop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s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ly within that loop, but may the s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the procedure in which it res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General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rpose of general procedures is to divide tasks into logical p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general procedures to perform repetitiv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eneral procedures can often be used from one program to the next saving programming ti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general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unction procedures return a val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ub procedures do not return a val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th accept 0 or more argum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th have a scope (Public or Private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procedures no longer supported (but static variables within procedures are still O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yVal is now the defaul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way to pass parameters in VB has always been ByR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.Net, parameters are passed ByVal unless ByRef is explicitly st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ng data ByVal is a benefit when procedures are called across process boundaries (as in distributed application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processes cannot easily access the same memory, so even if a parameter is passed ByRef, a copy must still be mad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rshal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turn a single value having a data type such as Integer or Boolea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unction procedures can appear on the right side of an assignment statem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Value returned by the function procedure is stored in the variable appearing on the left side of the assignment state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function procedures to perform repetitiv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one function procedure can call another function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Procedure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] 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Procedures (Synta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ywords denote the function procedure’s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ame of the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naming rules app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ames of function procedures must be u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s argument names and data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procedure can accept 0 or more arg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use defines the data type of a function procedure’s return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required when Option Strict is enab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to return a value from a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ing multiple Return statements is leg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procedure to exit immedi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 the end of the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Argumen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gument is the mechanism by which you communicate data to a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oth sub procedures and function procedures support argum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rgument has the following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multiple arguments are separated by a comma (,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R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g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( ) ]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g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Argumen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Re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indicates that the argument is passed by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indicates that the argument is passed b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e discuss ByRef and ByVal in a mom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g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the name of the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ndard variable naming rules app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ink of an argument as a local vari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g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ines the data type of the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ta type required when strict type checking is enabl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named Square takes one argument named psngArg having a data type of Single, and returns a Si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unction Square(psngArg As Single)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 Si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m psngLocal As Si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ngLocal = psngArg * psngA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psngLo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Procedure (Example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4038480"/>
            <a:ext cx="19051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867280" y="37339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867280" y="419112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373392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5334120"/>
            <a:ext cx="28195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 returns the value stored in psng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904760" y="5181480"/>
            <a:ext cx="23619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657600" y="51814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657240" y="563868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String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ored as consecutive characters called a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B .NET allocates one byte for each character in a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is a class hence strings are referenc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VB 6 strings were not class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s support properties and methods to perform string manipulation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xtracting a sub string from a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termining the length of a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for a string is "str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hange the value of a string, VB .NET destroys the string and creates a new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47720" y="1219320"/>
            <a:ext cx="7391520" cy="49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ub btnDemo_Click(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ngResult As Singl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sngResult = Square(34.5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Function Square(psngArg As Single) As 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sngLocal As Singl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sngLocal = psngArg * psngAr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sngLoc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a Function Procedur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69584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43560" y="3962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7040" y="25178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7040" y="287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3904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0552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656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4240" y="2438280"/>
            <a:ext cx="2057400" cy="536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passed to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95280" y="5410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5284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24040" y="556272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72404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404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22720" y="2517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5756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79640" y="2876400"/>
            <a:ext cx="1816200" cy="55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returned from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29560" y="4495680"/>
            <a:ext cx="2041560" cy="62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data type of function is Si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7760" y="5562720"/>
            <a:ext cx="17348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used as 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512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2444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909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390920" y="49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05320" y="49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481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9072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0056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196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00960" y="457200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86560" y="5334120"/>
            <a:ext cx="2022480" cy="749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variable stores intermediate res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5756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nefits of Function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hapter, we create several function procedures that could be reused by several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sInteg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orks like a classification function but determines whether a string argument contains an Integer instead of just a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sIntegerInRan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sInteg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determines whether an integer value within a valid range of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sFutureDa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termines whether a string can be converted to a date, and that the date is a date in the fu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sInteg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Function IsInteger(ByVal pstrArg As String)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Boole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m pdblArg As 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IsNumeric(pstrArg)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blArg = ToDouble(pstrAr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oInt32(pdblArg) = pdblArg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sIntegerInRang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981080"/>
            <a:ext cx="8305920" cy="4057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unction IsIntegerInRange(ByVal pstrArg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 String, ByVal pintMin As Integer,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yVal pintMax As Integer) As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pintArg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teger(pstrArg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Arg = ToInt32(pstr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intArg &gt;= pintMin)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(pintArg &lt;= pintMax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Fun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sFutureDat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438280"/>
            <a:ext cx="89154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unction IsFutureDate(ByVal pstrArg As String)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Date(pstrArg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ToDateTime(pstrArg) &gt; Today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 Procedur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function procedures but sub procedures do not return a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g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stat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 Procedur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s define the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 denotes that the procedure is a sub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a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ppear betwee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causes the sub procedure to execute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Exit Sub statements are allow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Return statement does not apply because sub procedures do not return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 Procedur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the contents of three text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procedure is named ClearTextBoxes and accepts no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b ClearTextBox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Prefix.Text = NullCh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FirstName.Text = NullCh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xtLastName.Text = NullCh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a Sub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a sub procedure with the Call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]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dure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gumentlis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 calls a sub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cedurena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is the name of the procedure to be call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gumentlis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ntains the list of arguments passed to the sub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number and data type of the arguments must match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a Sub Procedure (Example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procedure named ClearTextBoxes which accepts no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5372280" y="347976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3276720"/>
            <a:ext cx="2133720" cy="622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statement exec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248520" y="4876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25680" y="5981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25680" y="3708000"/>
            <a:ext cx="0" cy="22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5680" y="37083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3886200"/>
            <a:ext cx="21333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continues here after the End Sub is re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276720"/>
            <a:ext cx="4114800" cy="2770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ClearTextBoxe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ub ClearTextBoxe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xtPrefix.Text = Null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xtFirstName.Text = Null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xtLastName.Text = Null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St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s declared in the same way as other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Prefix As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multiple strings on the sam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FirstName, mstrLastName As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nd initialize string variables in the same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lace double quotation marks around literal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State As String = "NV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Call By Reference and Call By Val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rocedure arguments are passed by reference or by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oth sub procedures and function procedures pass their arguments by value or by reference in the same w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yR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 passes an argument by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 passes an argument by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sing Arguments by 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ually similar to a referenc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address is passed in the argument rather than a copy of th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alled procedure changes the argument's value, then the change is reflected in the calling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ng arguments by reference is useful when you need to return values from a sub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y passing multiple arguments by reference, you can return multiple values to the calling procedur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sing Arguments by Val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.NET makes a copy of the argument and passes that c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o the argument's value are not reflected back to the calling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copy is destroyed when the function or sub procedure returns (exit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ing arguments by value is the 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600200" y="2743200"/>
            <a:ext cx="8077320" cy="2770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SquareSub(pintAnswer, pint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ub SquareSub(ByRef pintResult As Long, 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ByVal pintArg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intResult = pintArg * pint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sing Argument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2971800"/>
            <a:ext cx="21337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of variable pintInput made and stored in pintA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3720" y="5257800"/>
            <a:ext cx="12189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5334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5791320"/>
            <a:ext cx="1371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371600" y="2285640"/>
            <a:ext cx="0" cy="35053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286000"/>
            <a:ext cx="19051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429000"/>
            <a:ext cx="2411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address passed to sub procedure 0x12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304812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3048120"/>
            <a:ext cx="0" cy="37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409720" y="3429000"/>
            <a:ext cx="12747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4724280"/>
            <a:ext cx="762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24680" y="3733920"/>
            <a:ext cx="0" cy="1143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2057400"/>
            <a:ext cx="13827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t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057400"/>
            <a:ext cx="13827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t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04812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426708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3048120"/>
            <a:ext cx="0" cy="37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114800"/>
            <a:ext cx="2133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429000" y="388584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4114800"/>
            <a:ext cx="0" cy="135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640" y="3429000"/>
            <a:ext cx="11714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tAsn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724280"/>
            <a:ext cx="0" cy="152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876920"/>
            <a:ext cx="4495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ssageBox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isplays a standard dialog box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ets acknowledgement from the u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dialog box is moda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er must close the message box before another form in the program can get input focu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essage box displays from 1 to 3 butt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buttons are standardized. You cannot create your ow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ialog box contains an optional ic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ains a textual message appearing in the region of the dialog box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ssageBox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how Metho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verload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applies to the MessageBox class and displays a message bo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lo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BoxButt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Box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alog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ssageBox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how Metho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contains a text that appears in the title bar of the message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contains the textual message that appears in the message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defines the number and caption of the buttons that appear in the message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esageBoxButton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numeration defines valid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defines the icon appearing in the message box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essageBoxIc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numeration defines valid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ssageBo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Return valu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x returns a value having a data type of Dialog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constant value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nc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gno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t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BoxButtons Const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 button consta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bortRetryIgno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KCanc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tryCanc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esN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esNoCanc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BoxIcon Const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MessageBoxIcon constant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steris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xcla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a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Ques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Assignment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string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ext property of a TextBox has a data type of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Name = txtName.Tex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liter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member to surround literal values with double quotation mark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Name = "Mr. Ed Jones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string variables ( Assume that mstrName and mstrCurrent are both declared as String vari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Name = mstr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Box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2362320"/>
            <a:ext cx="85345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dlgResult As Dialog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lgResult = MessageBox.Show("Do you want to exit?", "Exit"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BoxButtons.YesNo, MessageBoxIcon.Ques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dlgResult = DialogResult.Ye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.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30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Concaten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nd strings together using the "&amp;"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at a space is a character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trResult = mstrFirst &amp; " " &amp; mstrL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191120"/>
            <a:ext cx="15238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419360" y="4495680"/>
            <a:ext cx="1066680" cy="6098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191120"/>
            <a:ext cx="9907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p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191120"/>
            <a:ext cx="15238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5181480"/>
            <a:ext cx="15238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95880" y="44956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1680" y="4495680"/>
            <a:ext cx="838440" cy="6098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057400" y="5334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886200"/>
            <a:ext cx="0" cy="14479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Concaten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string concatenation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First As String = "Jo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Last As String = "Public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Result As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trResult = mstrFirst &amp; " J. " &amp; mstrL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572000"/>
            <a:ext cx="236232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trResult cont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J.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209680" y="502920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3962160"/>
            <a:ext cx="0" cy="1066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Charac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charac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special characters you embed in a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d by ControlChars class of the Microsoft.VisualBasic nam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rLf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stant embeds a carriage retur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auses a string to appear on multiple lin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ullCha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stant embeds a binary zer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Quo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stant embeds a double quotation ma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ab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stant embeds a tab charac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Joel Carissimo</cp:lastModifiedBy>
  <dcterms:modified xsi:type="dcterms:W3CDTF">2003-07-13T08:12:40Z</dcterms:modified>
  <cp:revision>950</cp:revision>
  <dc:subject/>
  <dc:title>CHAPTER 1</dc:title>
</cp:coreProperties>
</file>