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ADF7-2BC8-413F-88F2-F403C0358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CBDE-5D75-4A0D-AE31-FFC0A6167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28F6-BE1F-4695-ABCD-DAD2C81B3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2DD3-77CD-4B8A-9A9F-B24CD5887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7B491-B8B4-4859-883C-C610FE07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85582-7C20-4C43-831C-8EE4B4B5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4087B-2D6F-46E8-938A-259C848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D9815-0DB6-4118-A773-818C46EB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F8BE3-DA8A-49A1-B88E-7E88DB83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BC68D-B557-4950-A88A-B212353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DD7A0-4BB2-4103-90EE-D79BC54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9CEB-5BE9-4F5C-879C-6CD700634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415BC-9E8B-43F7-914C-29A0594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6D118-112C-4B12-A96E-5301B70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19B37-8C2F-4365-B215-7D6012A1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6BAEF-8E89-425E-9060-799DA52F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F3257-F1C1-4CB7-A87C-3A19DFCE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4B73-E0F7-4676-83A2-096CE3EFB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E3D2-7511-417D-A443-C676F22CB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D79A-B4DD-46B8-B12D-1D762B918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EFB3-6DCC-4513-8B0F-01011047E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FDE8-48EE-4331-8D65-C239DA6F0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0663-FFAB-4962-BB01-614D8962F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7F9C-BA85-4317-BFA9-0F5EC736E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172E-1541-4CB0-876F-2F1AD64B39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F6F5AEFA-E648-49BF-8F88-6EC2C2197C60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77C-8A5D-47D9-9046-87D96A377A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12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ing Reusable Components with Clas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fining the Namespace for a Compon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that all classes are organized into namesp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hen you created a desktop application, VB .NET defined a default name for yo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y default, the Namespace name is the same as the project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spaces are organized into a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ystem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a root namespace because it appears at the top of the hierarch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belongs to the System namespa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Rules for Namesp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recommends that namespace names be defined as foll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panyName.Technology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pany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the name of the company who developed the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chnlogy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a particular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rse.Traffic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the Root Name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FIG12-05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6422760" cy="4110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H="1">
            <a:off x="3047760" y="2743200"/>
            <a:ext cx="99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438280"/>
            <a:ext cx="20574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fi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047760" y="3200400"/>
            <a:ext cx="99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3124080"/>
            <a:ext cx="20574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file 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504960" y="35812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971800" y="396252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809880"/>
            <a:ext cx="20574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fi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3581280"/>
            <a:ext cx="0" cy="381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ferencing Namespaces between Projects (Step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Windows Application project in the Solution 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Project, and then click Add Reference to display the Add Reference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he Projects 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Class Library project, and then click OK to ad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Reference 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5283360" cy="4097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2819160" y="2743200"/>
            <a:ext cx="99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5909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projec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666880" y="487692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724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ed projec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the Imports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 does not make a namespace available f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s purpose is to allow you to reference the classes in a namespace without using a fully qualified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Imports statements can appear to import multiple name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s statements typically appear after the Option Explicit and Option Strict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amespace Hierarch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spaces are organized hierarch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create your own namespace hierarch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amespace Hierarchy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514600"/>
            <a:ext cx="1781280" cy="53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6680" y="3537000"/>
            <a:ext cx="1781280" cy="53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fficSig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06800" y="3537000"/>
            <a:ext cx="1781280" cy="53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00360" y="4498920"/>
            <a:ext cx="12826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p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65640" y="4498920"/>
            <a:ext cx="12826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Hand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4498920"/>
            <a:ext cx="12826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201480" y="3049560"/>
            <a:ext cx="8161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6880" y="3049560"/>
            <a:ext cx="79056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76080" y="4071960"/>
            <a:ext cx="34596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4071960"/>
            <a:ext cx="34452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75360" y="4071960"/>
            <a:ext cx="24912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 Name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 forms a block and contains one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 marks the end of the namesp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spaces, in turn, contains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3962520"/>
            <a:ext cx="7620120" cy="2040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pace TrafficSig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top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LeftHand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Namesp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Events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the developer, you have written event handlers throughout this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 raised events as the user interacted with the form or control instances on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the author you must define events and raise them to the develo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v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tatement declares an ev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aiseEv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tatement raises an ev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we use the terms "raising an event" and "firing an event" synonym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the concept of a compon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the role of author and developer in creating and test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namesp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events in a class modu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the types of class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properties with Public variables and Property Proced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enum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arn about overloa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Events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durena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g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ptional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keyword indicates that the event has Public access (visibility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v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keyword declares an ev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ote that it does not fire the ev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Procedurenam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the name of the ev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tandard variable and procedure naming rules appl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ptional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arglis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ains arguments passed to the ev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rguments can be passed by value or by referenc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n Event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n event named Light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Event LightChange(ByVal _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urrentLight As 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vent is named LightChan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vent takes one argument having a data type of col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ising an Ev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seEvent statement fires an 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iseEv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ntn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g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aiseEven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 appears in a procedure and will fire an ev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eventna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tains the event to fi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eclare the event with the Event statem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arglis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ontains zero or more argument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uments must match event decla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claring and Raising Event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238640"/>
            <a:ext cx="5043600" cy="186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Application project (develo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1447920"/>
            <a:ext cx="5043600" cy="235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Library project (auth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the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the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25640" y="2065320"/>
            <a:ext cx="48085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LightChange(ByVal currentLight As Colo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25640" y="2813040"/>
            <a:ext cx="480852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vate Sub tmrLight_Tick( . . .) Handles tmrLight_Ti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aiseEvent(mLigh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4726080"/>
            <a:ext cx="4808520" cy="10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vate Sub LightNorth_LightChange( 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ByVal currentLight As StopLight.Color) Handles 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ightNorth.Light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' Statement in event handl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8520" y="3122640"/>
            <a:ext cx="309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07400" y="3122640"/>
            <a:ext cx="0" cy="20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633800" y="520056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Class Instanc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ame syntax as you would use to create any other class 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keyword to create a class insta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mit 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keyword to just declare an object variable that references Noth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Class Instanc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instance of the StopLight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ghtNorth As New StopLight(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instance of the StopLight class using two stat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ghtNorth As StopLigh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North = New StopLigh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Class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an be exposed or hidden from the develo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idden data is not available to the developer and is part of the class‘s implement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posed data is available to the developer and is part of the interfa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hidden or exposed data using the same declaration statements that you have used in the p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ublic, Private, Friend, Di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Class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 are exposed (part of the interface) and are considered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 are shared by the classes in a project but not outside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 are hidden in the class containing the declaration so they are part of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 appear in a procedure and are part of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clare local variables with the Dim keywo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First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asiest way to create a property is to declare a Public variabl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reate property names such that they contain full wor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pitalize the first letter of each wo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void obscure abbrevi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to declare a property named Location having a data type of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the declaration appears in the class modu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Class StopLigh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Location As Str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ing a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bject.proper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yntax with which you are famili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the Intellisense technology works too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ghtNorth As New StopLigh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North.Location = "Northbound Main Stree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heory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onent Cre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that VB .NET is an object-oriented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ata and the processes that act on that data ar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ncapsulate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to classes supporting properties, methods, and ev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encapsulated package is called a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for a component is the properties, methods, and events supported by the compon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mplementa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that part of the component hidden from the develop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Enum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have been using predefined enumerations throughout thi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ssage box ic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lo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create your own enumerations with the Enu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class can have multiple enumer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um Statement (Syntax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mbern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stantexpre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mbern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stantexpre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um Statement (Syntax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ywords define the scope of the enum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eaning is the same as with other variable declara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 marks the beginning of the enumeration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ains the name of the enum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mber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element of the enum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n enumeration can contain as many elements as need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tant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ains the value of the enumeration me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By default numbering is sequential starting at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 marks the end of the enum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umeration (Example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n enumeration named Color with 4 me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ublic Enum Col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Green = 1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Yellow = 2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d = 3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None = 4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nu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umeration (Example 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umerations need not have unique or sequential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to declare an enumeration for the number of days in a particular mon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3456000"/>
            <a:ext cx="723888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num DaysIn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anuary =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ebruary =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h =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pril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y =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cember =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Enu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Enumerated Variab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declaring an enumeration, you can declare variables having an enumerate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Public CurrentColor As Col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 value in the enumera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CurrentColor = Color.Gree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ing Data in a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y declare a Private constant or Private variable in a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variables declared in a procedure are also hid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local variables declared in a procedure are also hid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Procedures in a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and Sub procedures in a class module have the same syntax as Function and Sub procedures declared anywher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ivate procedures are hidden and are part of the implement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ublic procedures are exposed and are part of the interfa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cedures can also be declared as Frien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Public Function procedure to create a method that returns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Public Sub procedure to create a method that does not return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Function and Sub procedures can accept 0 or mor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conven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a verb in the procedure name to denote a metho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whole words avoiding obscure abbrevi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ty Procedure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y Procedures provide an alternative to creating properties with Public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de executes when the developer reads or writes a property created with a Property Proced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us, the data can be validate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n addition, code can be written to store and retrieve values from other variabl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ole of Author and Develop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reates components intended for reuse by other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author creates the Class Library projec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s components created by an auth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developer uses the Class Library project in a Windows Application projec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developing and testing components, you switch back and forth between the roles of author and develo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ty Procedure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Syntax 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On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On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 [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rameter li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) 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na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lo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ty Procedure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Syntax 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means that the property is read-write. It can be o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oth Get and Set blocks must exi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On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indicates that property is read-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et block must exi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block must not exi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On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indicates that property is write-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et block must not exi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block must exi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ty Procedur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Syntax 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property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andard variable naming rules app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rameter li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defines arguments used to set th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the data type of th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quired because we use Option Explicit in this boo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in the Get block executes when the developer reads the property'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in the Set block executes when the developer writes the property'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 Read-Write Proper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roperty GreenInterval() As Int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intGreenInter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(ByVal Value As Int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tGreenInterval =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ResetTimer(mOperationMode, mL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ty Procedures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1905120"/>
            <a:ext cx="4168800" cy="66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ite proper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ightNorth.GreenInterval =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2806560"/>
            <a:ext cx="4168800" cy="70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ad proper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intInterval = LightNorth.GreenInter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3814920"/>
            <a:ext cx="4168800" cy="2172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Property GreenInterval() As Inte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eturn mintGreenInter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nd G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t (ByVal Value As Integ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mintGreenInterval = Val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all ResetTimer(mOperationMode,mLigh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nd 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nd Proper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4836960"/>
            <a:ext cx="1152720" cy="43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 Set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082960" y="239076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82960" y="2390760"/>
            <a:ext cx="0" cy="24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505152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38800" y="328140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76960" y="4184640"/>
            <a:ext cx="1152720" cy="43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 Get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746840" y="3281040"/>
            <a:ext cx="0" cy="9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634000" y="4421160"/>
            <a:ext cx="15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 Read-Only Property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the ReadOnly keywor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it the Set blo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ReadOnly Property CurrentColor() As Colo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Ge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 mLigh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End Ge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End Proper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 Write-Only Property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the WriteOnly keywor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it the Get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WriteOnly Property SetCurrentColor() 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(ByValue Value As 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ight =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 Write-Once Proper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ame syntax as you would use to create a read-write property b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clare a Static Boolean variable in the Set bloc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t the value to True when the property is set the first tim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an If statement to test whether the property has been set previously and throw an exception if necessar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Write-Once Property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362320"/>
            <a:ext cx="7924680" cy="3501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roperty ID()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int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(ByVal Value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blnSet As Boo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pblnSet = True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New System.Exceptio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blnSet 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tID =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Propert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erized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properties accept multiple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using a hidden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581280"/>
            <a:ext cx="7696080" cy="228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sngList(100) As 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roperty Item(ByVal pintArg As Integer) As 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sngList(pintA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(ByVal Value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sngList(pintArg) =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Proper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Component Cre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olution file with two projec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e project file is a Class Library pro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lass Library project contains the component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project is a typical Windows Application pro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Windows Application project is used to test the Class Library projec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lo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loading refers to the ability to create multiple procedures having the same name but varying argument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thods can have a different number of argume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thods can have arguments having different data typ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yword to overload a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loading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90720" y="3505320"/>
            <a:ext cx="7391160" cy="2577960"/>
            <a:chOff x="990720" y="3505320"/>
            <a:chExt cx="7391160" cy="2577960"/>
          </a:xfrm>
        </p:grpSpPr>
        <p:sp>
          <p:nvSpPr>
            <p:cNvPr id="277" name=""/>
            <p:cNvSpPr/>
            <p:nvPr/>
          </p:nvSpPr>
          <p:spPr>
            <a:xfrm>
              <a:off x="990720" y="3505320"/>
              <a:ext cx="7391160" cy="2577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loaded method SetOperation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96000" y="3828600"/>
              <a:ext cx="6780240" cy="612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ublic Overloads Sub SetOperationMode(ByVal popMode As OperationMode, ByVal pLight As StopLight.Colo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6000" y="4526280"/>
              <a:ext cx="6780240" cy="370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ublic Overloads Sub SetOperationMode(ByVal popMode As OperationMod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6000" y="4985640"/>
              <a:ext cx="6780240" cy="370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ublic Overloads Sub SetOperationMode(ByVal pLight As StopLight.Colo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6000" y="5483520"/>
              <a:ext cx="6780240" cy="36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ublic Overloads Sub SetOperationMode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>
            <a:off x="838080" y="30988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3098880"/>
            <a:ext cx="0" cy="85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9495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2208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743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464832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57200" y="236232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362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80880" y="205740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20574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71080" y="1906560"/>
            <a:ext cx="7770240" cy="1371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ghtNorth.SetOperationMode(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ghtEast.SetOperationMode(Stoplight.Color.Red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ghtNorth.SetOperationMode(StopLight.OperationMode.CycleFlash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ghtEast.SetOperationMode(StopLight.OperationMode.Cycleflash,StopLight.Color.N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lationship between the Solution File and its Project Fi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073400"/>
            <a:ext cx="996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4073400"/>
            <a:ext cx="996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21040" y="2136600"/>
            <a:ext cx="1781280" cy="53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12.s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3840" y="3254400"/>
            <a:ext cx="22543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12.vbpro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2120" y="3254400"/>
            <a:ext cx="22543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12Library.vbpro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3840" y="4595760"/>
            <a:ext cx="2254320" cy="78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able file run by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12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02120" y="4595760"/>
            <a:ext cx="2254320" cy="78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referenced by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12Librar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27480" y="2671920"/>
            <a:ext cx="85572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446200" y="2671920"/>
            <a:ext cx="79560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3600" y="378792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83200" y="378792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Compon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Class Library project by adding a new project to an existing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ject is created from a template using the Add New Project dialog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pecify Class Library as the templat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New Project 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FIG12-03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5077080" cy="3449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2743200" y="2895480"/>
            <a:ext cx="4038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5909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y Class Library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819160" y="457200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2670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 Explor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Two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FIG12-0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530520" cy="4002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3809520" y="4343400"/>
            <a:ext cx="12956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1911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Library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6720" y="2819520"/>
            <a:ext cx="838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297180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Applicatio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22096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09880" y="2666880"/>
            <a:ext cx="10670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819520"/>
            <a:ext cx="0" cy="457200"/>
          </a:xfrm>
          <a:prstGeom prst="line">
            <a:avLst/>
          </a:prstGeom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09880" y="3276720"/>
            <a:ext cx="457200" cy="0"/>
          </a:xfrm>
          <a:prstGeom prst="line">
            <a:avLst/>
          </a:prstGeom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17:37:27Z</dcterms:modified>
  <cp:revision>917</cp:revision>
  <dc:subject/>
  <dc:title>CHAPTER 1</dc:title>
</cp:coreProperties>
</file>