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964C-737D-4027-8A71-495B91503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6FBE-D928-4DB8-8710-CDA1FD0DD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B955-EAC0-4411-A000-2409D8905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B220-0253-40B9-91E2-312BE4252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6574-06A5-4611-B36E-3B800F9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4F2D7-F12F-4982-AE3B-956DB8F2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C232-86F9-4887-8F19-AA26F3FD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64893-185F-4115-8E7D-2981C1F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AE3F8-0D7E-4CCA-A881-AD86583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89D49-67FD-4FA7-95C0-0132F890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DD8E-6D2C-47A2-80B0-4FA7B06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9EFC-1B73-41BD-AF1F-6B7133159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2AF23-C7E4-419B-BCA0-B70391A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95576-02CC-4E8A-BB3D-609C82A6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F6553-9D4B-4115-AEC5-A21BFFE9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92BC-687B-4887-A774-176080AE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7E87-8190-4F33-85EA-E47AF6DA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3978-0077-4CC7-A5FA-695539A0A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BDC7-8528-46BC-BFAC-674A30588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E7A8-C8CB-4D0E-AD21-32EB916D6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2B66-C4C7-4611-9C83-99917586F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4C8E-06F0-477C-8A02-B01499946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D4B1-5F3A-48D7-B7CA-B5BADDDD9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E39C-29DE-46A9-B24B-4479EE74C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C434-018B-40D2-B1B0-6EEED9E0F7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914400"/>
            <a:ext cx="12952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0"/>
            <a:ext cx="41911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457200"/>
            <a:ext cx="304812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38880" y="685800"/>
            <a:ext cx="190512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228600"/>
            <a:ext cx="3429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41400">
            <a:off x="-1080" y="658296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Slide </a:t>
            </a:r>
            <a:fld id="{FE98B6D7-6362-4171-96D4-43AB139B96E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0280" y="1098720"/>
            <a:ext cx="72360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905120"/>
            <a:ext cx="5335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685080" y="228600"/>
            <a:ext cx="27000" cy="6019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2546280"/>
            <a:ext cx="230040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DA60-C4D1-46E5-814D-7CE183CD17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48520"/>
            <a:ext cx="693432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rogramming with Visual Basic 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n Object- Oriented Approach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6324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914400"/>
            <a:ext cx="2666880" cy="2286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807732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"/>
            <a:ext cx="45720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85800"/>
            <a:ext cx="3809880" cy="2286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28600"/>
            <a:ext cx="6248520" cy="228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41148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3200400"/>
            <a:ext cx="5637240" cy="474840"/>
            <a:chOff x="152280" y="3200400"/>
            <a:chExt cx="5637240" cy="474840"/>
          </a:xfrm>
        </p:grpSpPr>
        <p:sp>
          <p:nvSpPr>
            <p:cNvPr id="69" name=""/>
            <p:cNvSpPr/>
            <p:nvPr/>
          </p:nvSpPr>
          <p:spPr>
            <a:xfrm>
              <a:off x="152280" y="3200400"/>
              <a:ext cx="32209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0000" y="3200400"/>
              <a:ext cx="28195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36720" cy="36576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ppendix A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cing Program Exec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llow you to execute statements one at a time or to cal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nto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utton allows you to execute statements one at a tim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utton will execute an entire procedure if the current statement is a procedure call. It will execute a single statement otherwi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utton executes all of the remaining statements in the current proced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eakpoints (Introduc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tracing program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reakpoint will suspend execution when a particular statement is re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reakpoints can only be set on executable statem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can create as many breakpoints as you wa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reakpoints are persistent from one invocation of VB .NET to the ne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n VB 6, breakpoints were not persist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eakpoints (Illustr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3713040" cy="384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3124080"/>
            <a:ext cx="182880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in margin to set a brea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495680"/>
            <a:ext cx="18288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poi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 Breakpo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in the left margin of the Code Editor to create a breakpoint. Click on a breakpoint in the Code Editor to remove the break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points are of thre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breakpoints suspend execution whenever the breakpoint is reach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Hi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u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breakpoints suspend execution after the breakpoint has executed some number of tim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dition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breakpoints suspend execution when some condition is m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nditions resemble the conditions in an If state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ng a Conditional Breakpoi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560088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909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971800"/>
            <a:ext cx="18288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point condition looks like the condition in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the Command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and window has two views (m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d to evaluate expressions and call procedur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reater than (&gt;) symbol appears in first colum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ype "immed" to toggle Command window to Immediate mo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and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d to execute commands found on the VB .NET menu b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characters appear in the left margi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ype "&gt;cmd" to toggle Command window to Command mo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mmediate View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a question mark (?) followed by an expression to evaluate the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B .NET should be in break mod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pression can include variables, literal values, arithmetic operato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Just about any legal VB .NET expression will work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a procedure by typing the procedure name and any argu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mmediate View (2)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2485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Watch Express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4 Watch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ach works the same wa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lumn, you enter express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lumn displays the current value of an express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column displays the data type of the express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at VB .NET must be in break mode to set a watch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Watch Express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95960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 and fix run-time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e statement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breakpoints i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Command window in Immediate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watch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e cascading events with the Call Stack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Locals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the Call Stack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to locate Casc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ascading events occur when one event cause another event to occur forev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wo text boxes setting input focus to each oth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ocals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the value of loca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275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Programm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ming error (or bug) is any error that causes a program to run abnormally or to produce incorrect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fix programming errors, you apply a process calle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bugging requires that you are able to use the VB .NET debugging tools effectivel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You also need to be able to determine where to look for errors and which tool to use to correct an err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errors occur when you write a statement that VB .NET cannot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example, misspelling the Private keyword in a declaration stat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B .NET will underline syntax errors in the Code Edit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yntax errors also appear in the Task Window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780160" cy="390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1980720" y="5257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8600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playing Syntax Errors (The Task Lis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3809880"/>
            <a:ext cx="15238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rrors underl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952880"/>
            <a:ext cx="15238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rrors appear in Task List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-Time Err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-time errors occur while a program exec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B .NET calls run-time errors excep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run-tim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ype mismatch errors occur when you try to convert values between types that cannot be converte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rying to convert a string containing a letter to a numeric data typ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umeric overflow errors occur when you try to store too large a value in a variab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 trying to store a number greater than 32,767 in a sh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-Time Erro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box appears when a run-time error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highlight the offending statement in the Code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648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or may not result in a run-tim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a logic or design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example, multiplying two numbers together instead of adding the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Debugging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B .NET debugging tools consist of several debugging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Breakpoint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indow lets you suspend execution at an executable statement in your progra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indow lets you evaluate expressions and call func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Watc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indows display a list of variables and their current val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indow allows you to examine which procedures have been called and the order in which those procedures were call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ocal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window lets you examine the values of local vari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26:29Z</dcterms:created>
  <dc:creator>Michael V. Ekedahl</dc:creator>
  <dc:description/>
  <dc:language>en-US</dc:language>
  <cp:lastModifiedBy>New User</cp:lastModifiedBy>
  <dcterms:modified xsi:type="dcterms:W3CDTF">2002-07-16T15:03:25Z</dcterms:modified>
  <cp:revision>872</cp:revision>
  <dc:subject/>
  <dc:title>CHAPTER 1</dc:title>
</cp:coreProperties>
</file>