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EA9A-3B6A-4A16-8F95-2AFD9FE6A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666B-5152-4EFA-8983-FA841CC34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BECA-A2D2-49C8-A848-996CE7A4C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6DEF-138D-41AD-91C1-AC409F3B4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986A4-0468-497C-820C-5827A60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5B151-428D-4922-AC97-5764240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AD63E-8D21-4473-AE3A-D348029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AF51B-0456-4AA7-BE33-1BC7788E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2551-117D-475F-81E1-2C4AC018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9B0B4-4161-49A2-9112-488C2043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0FAD0-1D31-4477-A30B-A6D3887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E706-2EF3-4FB9-BD27-69381300A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DB33-F4BF-4511-9219-F5714E5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BDF9A-606B-4870-822E-30A6F61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D66D5-A59E-4B50-B2D0-038D67B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88D47-1AD2-492C-BA31-FD045A83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8325A-48C7-4D24-95FE-F380FDF4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85F6-0C7A-4131-9DA7-2EBA6B418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82A5-9B1F-4505-8E71-0DB0B002E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81BE-3BD1-4296-BACB-0D8CE16BF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0242-AE51-443E-8DA6-684313C6F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6640-BDD6-4713-8664-66E084FCE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E4D1-8136-472A-94F1-432C1B49C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31B1-58F3-45C6-A04E-AC46D5B50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DEE-B3DE-4D41-B15B-20A56C911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B1361083-B9F6-495F-B6C9-D1E4A105AC0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4E75-44F1-4D24-A748-27D439C283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4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loying a VB .NET Applic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Difference Between Debug and Release Configur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bug configuration builds a project such that the debugging tools can be used to examine the values of variables and perform other debuggi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Release configuration, the debugging information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Configuration Manager to select the current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-click the project in the Solution Explorer, and then select Configuration Manag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nfigur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FIG14-04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24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71600" y="32767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320" y="3429000"/>
            <a:ext cx="22100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4038480"/>
            <a:ext cx="19810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to buil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352320" y="4191120"/>
            <a:ext cx="4800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53280" y="37339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loying to Differ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a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s can be deployed to different types of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loppy dis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D-RO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Intern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Property Pages for the Setup Project to select the medi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loying to Differ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a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FIG14-05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521320" cy="3900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1905120" y="3124080"/>
            <a:ext cx="32004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89548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Packag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Deployment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jects are used to deploy a Class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t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to deploy a typical Windows Application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t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uilds an installer for an ASP.NET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to add a cabinet file for older Web browsers that cannot install software direc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loyment Project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sing the Properties window just as you would with any other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uth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anufactur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ies contain the name of the company that developed the applic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contains a textual descrip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tectNewerInstalledVers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will prompt the user if a newer version of the application is already install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movePreviousVersion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allows the installer to remove old software vers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ers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assigns a version number to the installer. This is the version of the installer not the applic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ployment Project Editors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Deployment Project Editors to manually configure the Deployment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is used to define which files will be deployed and where on the target computer those files will be deploy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Registr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lows you to define an installer that will add or update entries to the Registry on the target compu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creates file associ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lows you to add custom dialog boxes to the install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usto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lows you to further customize the installation proces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Launch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Edito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will check that specific components are installed on the target compu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ole of the File System Edi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le System Editor provides three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specify the files that you want to deploy to the target compu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iles may include executable files and any additional support fil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specify any items that will be added to the Start menu on the target compu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specify any shortcuts that will be added to the desktop on the target compu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le System Editor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fig14-06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4041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System Editor (Folde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Folders appear in the File System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pplicatio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ld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rols the destination folder where files will be stor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User'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skto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ines any desktop icons that will appear on the target compu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User's Programs Menu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is used to define any items that will appear on the Start menu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ote that new folders can be added to the Start menu to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deployment with Visual Studio 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setup project with a wiz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deploy to different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Deployment project to a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 support files with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file assoc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ustom Installer dialog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 the .NET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ng the Files for Deploy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l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uses the installer to create a new folder on the target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folders and sub folders can be add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typically add executable files or other support files to these folde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olution produces one or more outputs (executable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lect Project Output to add an executabl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ction allows you to select additional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tion allows you to add additional assemb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Project Output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FIG14-07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140000" cy="4844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38280" y="220968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276720"/>
            <a:ext cx="1600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he Release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5840" y="1600200"/>
            <a:ext cx="15238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37160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6720" y="1905120"/>
            <a:ext cx="3812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19051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62520" y="2438280"/>
            <a:ext cx="3045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62160" y="3809880"/>
            <a:ext cx="19047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loyment Project (Fil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build the Deployment project just as you must build any other project. The build produces the following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etup1.ms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the install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nstMsiA.Ex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nstMsiW.ex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re support files used in conjunction with Setup1.ms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nstMsiA.Exe is the ASCII vers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nstMsiW.Exe is the Unicode (wide) vers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user runs the fil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etup.Ex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etup.in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initialization inform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the Insta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test the installer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unning the Setup.Exe program from Windows Explor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 clicking the Deployment project in the Solution Explorer, and then clicking Instal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ill deploy the project as if it were being deployed on the target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loying Support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want to deploy support files in addition to any executabl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iles may be deployed to any folder that you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iles may incl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atabase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ext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elp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ther data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Folders to a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eploying a large number of files, organizing those files into different folders will reduce clu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File System Editor, add folders to the Application Fol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folders may also have sub fold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n add files to those newly created fold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ding Folders to a Target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fig14-09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6016680" cy="3643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1980720" y="30481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7432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Data Files to a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File System Editor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 to add a data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the desired folder in the File System Edi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-click the fol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Add, and then click File from the popup menu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the desired file from the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File Assoc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ssociations allow the user to double-click a file to run the associated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File Types Editor to add a file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ultiple file extensions may be associated with the same pro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e careful not to use well-known well-defined file associations such as .doc, .xls, or .mdb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Associations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specifies the executable file that will be lau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ents appears in the File Types column of Windows Explo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n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you define the file ext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files extensions are separated by a semicol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icon that will appear in Windows Explo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uters used in the Deployment Proc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puters are used in the deploy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velop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ut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where you create the deployment project and build a program called an install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user then runs the installer on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hapter, your computer will fulfill both r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ployment process is essential because a .NET program cannot run without the .NET Framework insta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File Association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ivate the File Types Editor for the Deployment pro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-click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le Types on Target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name the Fil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using the Properties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using the properties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ten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to the desired file extension or file exten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parate multiple files extensions with a semicol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Types Editor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FIG14-11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05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mmand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Command function to get command line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command function belongs to the Microsoft.VisualBasic namespa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the user double-clicks a file, the file is passed as a command line argu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mand line arguments are stored in a str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pli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method of the System.String class to break up the string if necessar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mmand Function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command function storing the arguments in the variable named pstrCommandAr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886200"/>
            <a:ext cx="769608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m pstrCommandArgs As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strCommandArgs = Microsoft.VisualBasic.Command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ault Installer Dialog Bo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user runs the installer the following dialog boxes appear by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elco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ialog box displays a welcome mess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stalla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ld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llows the user to override the default installation fol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stalla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ialog box allows the user to confirm or abort the install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rogres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ialog box displays the relative progress of the install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nish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ialog box displays an installation summa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ustomize the installer by adding additional dialog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stom Installer Dialog Boxes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dioButt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alog box containing two or more radio but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ckbo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alog box containing one or more check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Used to supply a customer name and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bo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contains one or more text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cen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e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Requires that the user accept a license agre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 introductory read me dialo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i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orces the user to register your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l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 introductory sc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Custom Dialog Box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User Interface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VB .NET menu bar,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 Di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tivate the Add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dialog that you want to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the dialog box to the desired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 a splash screen appears fir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Dialog Box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FIG14-13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48578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ser Interface Editor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2" name="FIG14-1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666200" cy="4287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38280" y="327672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allation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Conditional Deploy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nfigure the installer so that the user can elect to deploy or not deploy specific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a Checkboxes dialog so that the user can make the se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adiobutton dialogs will work to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wo ways to perform a conditional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the Condition propert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uild a launch condi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s to Deploy a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an existing solution containing one or more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Deployment project within th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ere you can see one purpose of the solution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 the Deployment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pecify the files that you want to deplo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pecify the items that you want added to the Start menu on the target compu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the Deployment project thus creating the Setup.exe file and related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the Setup.exe file and related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heckboxes Di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heckboxes dialog contains one or more check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by adding a custom dialog just as you added a splash sc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e the dialog using the Properties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stom Checkboxes Dialog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nnerBit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picture that appears in the banner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nner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any text that appears in the banner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ollowing properti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which check box. Value ranges between 1 and 4 (4 checkbox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heckBox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defines the text that appea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heckBox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works like the Name property of a control insta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heckBox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property defines whether the check box is checked or no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heckBox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Visibl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controls whether the check box is visible or no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the Condition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File System Editor to define the condition for a file, executable, or Start menu i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File System Editor, select the desired file, and then activate the Properties wind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the Condition property using the name of the Check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CHKTUTORIALS=1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unch Cond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 conditions allow you to require that a particular piece of software is already installed or that the software version is at some minimum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ersion9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is used to determine whether Windows 95, Windows 98 or Windows ME is runn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ersion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used for Windows NT, Windows 2000, or Windows X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hysicalMemor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returns the amount of ram on the target compu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ng System Version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9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400 for Windows 95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410 for Windows 98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490 for Windows M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400 for Windows 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500 for Windows 200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501 for Windows X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Launch Condition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Launch Conditions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popup menu, add a launc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Name and Message properties as des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Condition property to set for Windows 2000 or Windows XP as 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VersionNT=501 OR VersionNT=50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unch Condition Editor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fig14-15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48980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unch Condition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the name of the file for which you are sear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example Internet Explorer is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Explore.ex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maximum and minimum file date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l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folder where the installer will search for the File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number of sub directories that will be sear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Ve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Ve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ies contain minimum and maximum version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a Launch Condition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Launch Condition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-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ments on Target Machi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 File Launc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Name property to a descriptive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Filename property to the desired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Folder property to [ProgramFilesFolder], and then set the Condition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alling the .NET Framework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un any .NET application, the .NET Framework must be inst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ile name is DotNetfx.ex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le size is about 20 megabyt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un the executable file as you would run any install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ile can be downloaded from Microsoft and installed by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s is not the best alternative as many users will not know what the .NET Framework i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Setup Project with a Wizar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tup Project Wizard contains 5 dialog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irst is a Welcome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second dialog box, you specify the type of project to deplo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third dialog box, you specify the program outpu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fourth dialog box, you select any additional support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inal dialog box displays a summary repor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alling the .NET Framework from a Deployment proje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 installer called a bootstra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bootstrapper installs the .NET Framework and then runs your install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wnload a version of the bootstrapper from Microsof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bootstrapper must be config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he Bootst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 the settings.ini file and set the MSI key to the name of your inst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i=.\DataFileSetup.m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FsInstallerPath key to the name of the Framework file (DotNetfx.ex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InstallerPath=.\dotnetfx.ex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Access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that access data require that the Microsoft Data Access Components version 2.6 or later are inst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ying a Deployment Configur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.NET supplies two default configurations for compiling 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bug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figuration allows a project to be debugged from within Visual Studio .N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elea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figuration removes debugging cod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project's Property Pages to select th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ying a Deployment Configur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fig14-0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965920" cy="381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43828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4760" y="259092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eploymen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FIG14-02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6095880" cy="41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2895480"/>
            <a:ext cx="19810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Setup and Deployment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304812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7600"/>
            <a:ext cx="19810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Wizar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85640" y="3809880"/>
            <a:ext cx="3429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osing a Project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FIG14-03" descr=""/>
          <p:cNvPicPr/>
          <p:nvPr/>
        </p:nvPicPr>
        <p:blipFill>
          <a:blip r:embed="rId1"/>
          <a:stretch/>
        </p:blipFill>
        <p:spPr>
          <a:xfrm>
            <a:off x="4038480" y="1979640"/>
            <a:ext cx="4648320" cy="4125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3048120"/>
            <a:ext cx="20574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Deployment project for a Window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400" y="3200400"/>
            <a:ext cx="14479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9:37:36Z</dcterms:modified>
  <cp:revision>909</cp:revision>
  <dc:subject/>
  <dc:title>CHAPTER 1</dc:title>
</cp:coreProperties>
</file>