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AA59-F24A-4C34-B21E-D21B75C8F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D2C8-2A21-4155-9435-F9C1BF4C0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22B0-A1C0-477A-A658-0A039C6C2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6136-4972-4149-8160-E042D5438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B8813-279A-4BC7-9625-4B652254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C44AA-0E69-46CA-AA8A-EB183DC7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C92C3-4C3E-4371-8493-F14522B6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221E3-6C5B-41C7-A747-91591E4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C6EC0-0B71-4BCF-85BF-1620A49A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7F097-7E35-4C62-85DC-A9ABAACD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4F982-4657-49C7-AAD3-694D444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F0B3-68A7-485C-ACA2-7204B511B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6C4D5-18EB-45D3-90BE-80D99BC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2FF1-DCE4-449D-B53B-C37614C4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1A0C-451D-4F9E-98D5-92813FFA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2788B-DE95-4D10-8B98-1289B8F0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26FFA-39D0-4B8A-BA82-B2B4377F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D477-16DC-415C-9331-438DD0918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78AB-CFF8-4280-A46D-110E6772A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1A19-C009-4D5B-8ECE-7815C94BE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F37C-5A24-47C1-B51D-392906BAC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AF22-B023-4A35-88DB-BF1B23E7A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7233-E307-4756-8601-4F0090B7C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7D0F-4280-4D0C-BFF1-F55BE262D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D74-D633-496C-9F63-05412FBC50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6AFC7219-241A-451D-839D-3A5EFB6C39FD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0D9E-EF80-485A-8654-EF5C0E322E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calhost/applicationam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13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roduction to ASP.NE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 in an ASP.NET Application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FIG13-0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164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s in an ASP.NET 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semblyInfo.v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global assembly 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ilar to the AssemblyInfo.vb file in a Win Forms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lobal.as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lobal.asax.v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 global event handl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yles.c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style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eb.confi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configuration in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der lists namespace refer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, the purpose is the same as in a Win Forms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asp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le contains the Web 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v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le contains code behind Web 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asics of I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is made up of Web clients and Web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S is the Web server supplied by Microso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SP.NET only works with IIS. You cannot use other Web server softwa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IIS on a standalone computer to develop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S Manager is used to configure and maintain I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art IIS manager using the Control Pan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IS Manager manages one or more Web sit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Information Services Manager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FIG13-05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1656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First HTML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HTML page is made up of Tags an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ags and data work togeth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dentify the parts of an HTML pag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pply formatting to te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ine links to other Web pa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ains the text that appears in a brows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Tag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ags as HTML key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s appear in less than and greater than sig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&lt;HTML&gt; for examp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tags have an opening and closing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osing tags have a forward slash (/) character in the ta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&lt;HTML&gt;  &lt;/HTML&gt; for examp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Tag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tags have no closing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&lt;BR&gt; tag for example creates a line break forcing a carriage return in a lin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tags, the closing tag is op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Paragraph &lt;P&gt; tag for examp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gs (A Short Lis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TML&gt; &lt;/HTML&gt; marks the bounds of the HTML 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tags appear between the starting and ending &lt;HTML&gt; t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EAD&gt; &lt;/HEAD&gt; marks the documen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ITLE&gt; &lt;/TITLE&gt; appears in the documen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appears in the title bar of the brow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BODY&gt; &lt;/BODY&gt; contains the document content that appears in the brow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document contents appears between the &lt;BODY&gt; t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&gt; marks a para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&gt; marks an 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g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FIG13-07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6865920" cy="3246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27560" y="719280"/>
            <a:ext cx="45878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Chapter 13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Completed Example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962520" y="1294920"/>
            <a:ext cx="0" cy="16765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343400"/>
            <a:ext cx="6553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295280"/>
            <a:ext cx="533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381880" y="1828440"/>
            <a:ext cx="0" cy="25146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1828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T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s are NOT case sen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show them in upper-case but the decision is arbitrar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s may appear on multiple lines or the sam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TML ignores carriage returns at the end of a lin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n ending tag is optional, we will include it for c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basics of Active Server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characteristics of an ASP.NET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 HTML page in an ASP.NET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start page for an ASP.NET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hyperlinks and HTML graphic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Web Forms and the creation of HTML on a Web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ontrols and event handlers for Web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databases and the DataGri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HTML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VB .NET menu bar, click Project, and then click ADD HTML Page to display the Add New Item dialo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Templates pane, make sure that HTML Page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Name property having a suffix of 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Properties window, set the title property as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s many HTML pages in an application as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th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Desig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TML Designer allows you to enter tags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views are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sign view provides a visual drawing surface similar to the Win Form Design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indow operates differently depending on whether GridLayout or FlowLayout is selec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TML view allows you to edit HTML tags and data direct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hanges made in HTML view are reflected in Design view and the other way aroun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Designer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FIG13-0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70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Attribute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ting and other HTML characteristics are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tributes are similar to propert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the attributes differ howev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tags support different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are not case sen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ading character is usually lower case thoug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ocument Ob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ocument object represents the HTML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gColo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background color of the HTML p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ageLayou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lowLayou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auses control instances and text to wra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ridLayou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auses control instance and text to appear fix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it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ttribute contains text appearing on the browser's title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ttribute defines default text col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Link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text color of 'visited' Web pag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ribut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text and background color to darkgreen and paleturquoise respect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581280"/>
            <a:ext cx="70866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 text="darkgreen" bgColor="paleturquois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 Outline Window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an HTML document and its tags hierarch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t to select and navigate through a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 Outline Window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FIG13-09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43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yle Builder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tags support the styl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Document Outline window, Properties window, and Style Builder, you can easily format elements such as paragra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yle Builder allows you to defi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nts and colo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nt attribut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ext align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more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yle Builder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FIG13-10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472280" cy="392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2666520" y="2666880"/>
            <a:ext cx="1219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43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attributes from drill-down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about Internet Information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Information Server (IIS) must be installed to complete this chap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 installed by default with Windows 200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IS is installed by default in Windows X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stall (IIS) using the Add/Remove Programs dialog box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Web Server will not work with ASP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 .NET Framework must also be instal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.NET Framework gets installed when you install .N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the Start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as a Windows Application can have a start page so too can an ASP.NET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fine the start pag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tivate the Solution Explor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-click the desired HTML page or Web 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Set As Start Page from the popup menu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Hyperlink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Hyperlink dialog box to specify the type of hyperlink and the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FIG13-11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530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Hyperlink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Create URL dialog box to locate a particular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the URL should already ex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jects pane lists the projects that make up the ASP.NET Web appli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ents pane lists the files in the appli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RL type pane defines the type of UR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Use to define absolute or relative references or links to other Web sit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URL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FIG13-12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355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ole of the Anchor T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r tags are used to create hyperlinks to the Web or links to another page in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ref attribute creates a hyperlin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link to www.course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8006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 href="http://www.course.com"&gt;Course Technology&lt;/A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Graphical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s created on an HTML page are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Toolbox to create widgets on the HTML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Horizontal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u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widget draws a horizontal lin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widget displays a pict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ny more widgets exist than those discussed in this chap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Horizontal Rule Wid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a horizontal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attributes using the Properties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ttribute defines the line col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noshad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ttribute controls whether the line appears shad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ttribute defines the thickness of the lin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ttribute defines the line widt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mage Wid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o insert a picture into an HTML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the picture is stored in a separate file and not in the HTML page itself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lig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ttribute specifies the alignment in relation to the surrounding t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ord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ttribute defines the border surrounding the im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width attributes define the image siz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ttribute defines the URL where the image can be foun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Web Fo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Forms are the second type of form that comprises an ASP.NET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b Forms interact with the client and serv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lient sends requests to the serv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rver processes those requests, generates a new HTML document, and sends it to the cli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s processing cycle is called a round trip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Round Trip of a Web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286000"/>
            <a:ext cx="15429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2286000"/>
            <a:ext cx="154332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62360" y="2762280"/>
            <a:ext cx="132408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 request to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33920" y="2762280"/>
            <a:ext cx="132408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33920" y="3571920"/>
            <a:ext cx="132408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nerate Web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1440" y="3571920"/>
            <a:ext cx="132408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 Web Form to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09880" y="3571920"/>
            <a:ext cx="132372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play Web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09880" y="2762280"/>
            <a:ext cx="132372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3600" y="303840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03840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3051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105520" y="381960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33600" y="381960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up the Demo 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pplication must be configured to run on your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application to an IIS virtual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ically a subdirectory of C:\Inetpub\wwwroo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py the corresponding database to a shared directory C:\Sha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hare the folder and file using Windows Explor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izing Web Form Round Tr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ive server load and excessive round trips cause poor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SP.NET minimizes round trips as much is possi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ntrols do not support ordinary mouse eve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ll control instances are validated on the server at the same tim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Stages of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ge_In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first when a page is first initi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ge_Lo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as the Web server initializes the code you wr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validates any control in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event handling beg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example, the Click event handler for a button execut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ge_Unlo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allowing you to perform housekeeping, close database connections and so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Form Contr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Form controls are server controls because their code runs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D property replaces the Name propert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peration is similar to controls used in a Win Form applic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reate event handlers the same way to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tt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 used to create a button the user can cli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 displays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ropDown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unctionally similar to a combo bo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Bo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used for input and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Validation Contr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ation controls run on the server and validate the data contained in another control instance (ControlToValidat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are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 compares two values for e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quiredField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 checks that a value exists in another control in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nge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 checks that a value is within some valid ran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idationSumm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 displays summary validation information either in place or in a message bo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 of Validation Contr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514760" y="2362320"/>
            <a:ext cx="292428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05640" y="3571920"/>
            <a:ext cx="409320" cy="209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362320"/>
            <a:ext cx="15429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43480" y="2838600"/>
            <a:ext cx="85716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7000" y="2838600"/>
            <a:ext cx="132408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e control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48360" y="3648240"/>
            <a:ext cx="1152720" cy="295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s data val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09880" y="3648240"/>
            <a:ext cx="132372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play Web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09880" y="2838600"/>
            <a:ext cx="1323720" cy="54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33600" y="3114720"/>
            <a:ext cx="2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43720" y="39434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43720" y="33814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781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33600" y="3895560"/>
            <a:ext cx="12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77000" y="4267080"/>
            <a:ext cx="1324080" cy="7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form normal processing by executing Click event 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19520" y="3305160"/>
            <a:ext cx="1019160" cy="88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ild page displaying validation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67560" y="3981600"/>
            <a:ext cx="533520" cy="209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00640" y="306720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90600" y="4705200"/>
            <a:ext cx="188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990960" y="38952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mpareValidat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ompare two values to make sure that they are within some valid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relational operation that will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qual, NotEqual, GreaterThan, LessTha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ToComp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operand used in the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the dat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ring, Integer, Double, Date, Currenc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ToVali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the name of another control instance such as a Text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quiredFieldValidat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quiredFieldValidator control checks for exis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at is, another control instance such as a text box must contain dat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rorMess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ies contain descrip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olToVali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contains the name of the control instance to vali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 error will occur if you do not set the ControlToValidate propert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angeValidat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CompareValidat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olToVali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ies have the same meaning as with the other validation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imum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defines the minimum valid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ximum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defines the maximum valid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ValidationSummary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hers the ErrorMessage property from the other validation control instances on the Web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ssages are displayed either in place or in a message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s in ASP.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OleDbConnection, OleDbDataAdapter, and DataSet that you used in Chapters 8 and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id control has a similar appearance to the Win Forms DataGrid but works much different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Server P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P is an acronym for Active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SP.NET represents the next generation of AS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SP to create Web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P.NET applications contain two types of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TML pa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b For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the Win Forms DataGrid control in that it displays data in rows and colum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perties and methods differ though because we are working with ASP.NET and the Intern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elongs to the System.Web.UI.Controls namespa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owPag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rols whether the DataGrid will display the rows in multiple pages containing a fixed number of 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Memb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the name of the table in the Data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Key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is used when updating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contains the name of the unique key fiel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itItemInd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the index of the row currently being ed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 is 0-bas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f no record is being edited then the value is -1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Events and Method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Bi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inds the control instance to the Data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itComm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when the user begins editing a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Comm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when the user wants to abort editing of the current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leteComm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when the user elects to delete the current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Comm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s fires when sorting is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ng the Data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d the DataGrid in the Page_Load event hand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bind the DataGrid the first time the page is loa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114800"/>
            <a:ext cx="5410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dbdaParts.Fill(dsPart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Page.IsPostBack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Parts.Data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ting the Data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Property Builder to format the Dat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y Builder has a drill-dow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enera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configures binding information and how data are display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lumn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allows you to format individual colum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ag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used to display a fixed number of records on a p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rma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controls visual formatt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order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control how gridlines appe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y Build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Columns ta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FIG13-17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864320" cy="4178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flipH="1">
            <a:off x="2819160" y="228600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21337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desired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y Build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Format Ta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the elements of the DataGrid hierarch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Head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oot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bjects define formatting for the header and footer row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ag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bject defines formatting of the Pager se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tem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bject allows you to format normal rows, detail rows, or alternating row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lumn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bject allows you to format individual colum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y Build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Format Ta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FIG13-18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940280" cy="4243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 flipH="1">
            <a:off x="2819160" y="251460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23623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t tab is 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Grid Control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Editing Record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eps to edit records differs between the ASP.NET DataGrid and the Win Forms DataGr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able editing for the DataGri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tivate the Property Builder, and then select the Columns tab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pand the Button Column entr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he Edit, Update, Cancel ite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Reorder the buttons as necessar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abling a Record for Edi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code in the EditCommand event handler to enable editing on the curren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t the EditItemIndex property to the selected record and rebind the DataGri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4800600"/>
            <a:ext cx="57913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Parts.EditItemIndex = e.Item.Item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gParts.DataBi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HTML p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using the Hypertext Markup Language (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pages have a file suffix of 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SP.NET application may contain any number of HTML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t is possible to have 0 HTML pages in an ASP.NET appli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s are stored in an IIS virtual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ving DataGrid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dentify which row was updated and the value of the key field for the current r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et the data out of the changed r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ocate the row in the DataS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py the changes to the DataS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pdate the DataSet and synchronize the DataSet with the databas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rieving the Key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DataKeys collection and the Item property to get the key field for the current r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3733920"/>
            <a:ext cx="731520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trKey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rKey =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gParts.DataKeys.Item(e.Item.ItemIndex).ToStr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rieving the Changed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d data is stored in text box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ext box is a cell in the cells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ample to retrieve data from the second and third text box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267080"/>
            <a:ext cx="82296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rPartNumber = CType(e.Item.Cells(2).Controls(0)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Box).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rPartDescription = CType(e.Item.Cells(3).Controls(0)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Box).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ting the Chang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w in the Data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 DataRow object and then call the Find method to locate the r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3657600"/>
            <a:ext cx="72388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r As dsParts.tblParts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DsParts1.tblParts.FindByfldPartNumber(pstrKey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nceling DataGrid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EditItemIndex property to –1, and then rebind the DataGr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3505320"/>
            <a:ext cx="7086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Parts.EditItemIndex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gParts.DataBind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a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record that was edited and then dele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3276720"/>
            <a:ext cx="784872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trKey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r As dsParts.tblParts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rKey =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Parts.DataKeys.Item(e.Item.ItemIndex).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.DsParts1.tblParts.FindByfldPartNumber(pstr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.Dele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dbdaParts.Update(DsPart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Parts.Data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sParts1.AcceptChange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Web Fo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Forms are programmabl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ite code for Web Forms in the same way that you write code for a desktop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create event handlers in the Code Edi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b Form is stored in multiple disk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e file contains the HTM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other file contains the cod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ASP.NET 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new project (Use the ASP.NET Web Application templ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IIS is not installed and running, you will not be able to create the appli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Location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applicatio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ocalhost refers to the loopback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 in an ASP.NET 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 similar purpose as the Win Forms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eb Forms Designer is made up of two tab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presents a visual drawing surfa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ab allows you to edit the HTML direct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different files though the purpose is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olBo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plays controls but the control names differ in som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s the same way but many property names di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19:18:46Z</dcterms:modified>
  <cp:revision>917</cp:revision>
  <dc:subject/>
  <dc:title>CHAPTER 1</dc:title>
</cp:coreProperties>
</file>