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ADA0-29EF-412A-85E3-9536F6D58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FE9B-399F-4936-80CA-F7E900C02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939B-AD96-4E1C-97DA-1C67EE866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D93F-C476-492A-8C06-F9575B41F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21E57-92E9-400D-85F4-AED18139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7FD27-BED9-4BA2-AD48-43761036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2652E-ADFD-4E06-9B70-427390BD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09C9B-BC53-4D8A-A2F3-DB26C271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B95E9-37AE-49BA-A86A-328BCBD6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7CE48-FE20-466D-A4AC-E9424270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56CEB-581B-4C3C-9513-92D9C068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989C-BB10-470E-B928-114D26D56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17383-7C7B-4CC5-A9C1-CBD1E711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B3409-6179-4528-B021-8E166BDF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14700-4BF6-43EE-9310-3604A56A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E5E80-03D8-4707-A596-8C1BCA4A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C6D62-CC5F-471F-9096-3E169774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76FE-F2CD-4C7F-B19D-45D5287F5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E55D-BE2E-4EEB-8F17-3B11AE8A7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258A-49EE-4BA0-AF48-F69BD4A43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83B6-7532-4E37-9E82-905988002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B3A5-DA39-49DC-8705-78CF742CA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DF3D-3579-4B8F-90CA-92D36B0A8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08EF-BBAD-4DC2-96A4-11768E544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FC70-74EA-4EC8-B3D8-4098974275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914400"/>
            <a:ext cx="12952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0"/>
            <a:ext cx="41911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457200"/>
            <a:ext cx="304812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38880" y="685800"/>
            <a:ext cx="190512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228600"/>
            <a:ext cx="3429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41400">
            <a:off x="-1080" y="658296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Slide </a:t>
            </a:r>
            <a:fld id="{D05A276F-5EBA-43AB-914E-E97DFDFE486F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00280" y="1098720"/>
            <a:ext cx="72360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905120"/>
            <a:ext cx="5335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685080" y="228600"/>
            <a:ext cx="27000" cy="6019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2546280"/>
            <a:ext cx="230040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460F-A364-4C56-8C9A-1D5B88C811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914400"/>
            <a:ext cx="26668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0"/>
            <a:ext cx="80773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"/>
            <a:ext cx="45720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685800"/>
            <a:ext cx="380988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28600"/>
            <a:ext cx="6248520" cy="228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41148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3200400"/>
            <a:ext cx="5637240" cy="474840"/>
            <a:chOff x="152280" y="3200400"/>
            <a:chExt cx="5637240" cy="474840"/>
          </a:xfrm>
        </p:grpSpPr>
        <p:sp>
          <p:nvSpPr>
            <p:cNvPr id="69" name=""/>
            <p:cNvSpPr/>
            <p:nvPr/>
          </p:nvSpPr>
          <p:spPr>
            <a:xfrm>
              <a:off x="152280" y="3200400"/>
              <a:ext cx="32209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0000" y="3200400"/>
              <a:ext cx="28195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36720" cy="36576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hapter 10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alog Controls Common to Windows and Structured Error Handl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d Error Handler (Example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ch a divide by zero exception and display a message 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2998800"/>
            <a:ext cx="7543800" cy="256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shoX As Short = 100 pshoY As Shor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shoResult As 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hoResult = pshoX / ps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ex As System.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Box.Show(ex.Message, "Error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' Statements that will always exec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T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781680" y="3505320"/>
            <a:ext cx="1067040" cy="1066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d Error Handler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Logic Flow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r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r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ption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276360" y="2743200"/>
            <a:ext cx="29718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2133720"/>
            <a:ext cx="205740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e statements that may cause an 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315200" y="28954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93000" y="3865680"/>
            <a:ext cx="5572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4038480"/>
            <a:ext cx="6858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1240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3124080"/>
            <a:ext cx="0" cy="914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7040" y="3429000"/>
            <a:ext cx="45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505320"/>
            <a:ext cx="0" cy="1828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990360" y="3505320"/>
            <a:ext cx="6858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990360" y="4419720"/>
            <a:ext cx="6858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990360" y="5334120"/>
            <a:ext cx="6858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4572000"/>
            <a:ext cx="0" cy="7621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5334120"/>
            <a:ext cx="38862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4952880"/>
            <a:ext cx="205740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ments in Finally block always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32200" y="4800600"/>
            <a:ext cx="378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nderstanding the Exception Clas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xception class supports properties to get information about the exception that occu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perty gets the text associated with the excep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perty gets a string containing the application name or object causing the excep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tackTra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perty returns a string defining where in the code the exception occurr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orking with Multiple Catch Block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are hierarch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exceptions are based on the Exception class of the System nam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.Exception will catch all types of exce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Exceptions catch more specific types of exce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types of 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viding a number by 0 causes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videByZeroEx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and output errors cause 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oEx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ing to reference a file that does not exist causes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leNotFoundEx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ithmetic operations causing numeric overflow generate 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erFlowEx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many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ception Hierarchy (Illustra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514240" y="33526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057400"/>
            <a:ext cx="2514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2590920"/>
            <a:ext cx="2666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Arithmetic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200400"/>
            <a:ext cx="28954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DivideByZero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3809880"/>
            <a:ext cx="28954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verflow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4343400"/>
            <a:ext cx="2666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Data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4952880"/>
            <a:ext cx="2666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IO.IO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14600" y="2971800"/>
            <a:ext cx="0" cy="990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514240" y="396252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057400" y="2437920"/>
            <a:ext cx="0" cy="26672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2743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040" y="449568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057040" y="510552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5562720"/>
            <a:ext cx="28954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FileLoad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14240" y="57150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514600" y="5334120"/>
            <a:ext cx="0" cy="3808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ierarchical Exceptions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ch overflow exceptions and othe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 catch an Overflow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catch all other exce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3352680"/>
            <a:ext cx="7543800" cy="283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shoOperand1 As Short =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shoOperand2 As Short =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shoResult as 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hoResult = pshoOperand1 * pshoOperan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exOverflow As System.Overflow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Box.Show(exOverflow.Message, "Error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exGeneral As System.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Box.Show("Other Error", "Error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Tr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owing an Exce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cess of generating an exception is known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rowing an ex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Throw keyword and the type of exception you want to thr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throwing a System.FormatExec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4724280"/>
            <a:ext cx="60958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 New System.FormatExcep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enFileDialog and SaveFileDialog Controls (Introduc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controls support nearly the same properties and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OpenFileDialog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gets a file to ope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aveFileDialog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llows the user to specify a file to sav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ntrols do not actually open or save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y merely allow the user to select a fi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t is up to your program to open or save the fi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controls are invisible at run time so they appear in the resizable tray at the bottom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enFileDialog and SaveFileDialog (Properti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eckFileExis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eckPathExis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termine whether user can specify a file or path name that does not ex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gets a string containing the file name to open or sa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leNam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gets an array of file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l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controls the file type that will appear in the dialog bo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lterInde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works with the Filter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efines which filter is active and the default fil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Note the property is 1-base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location for files is th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itialDir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allow the user to select multiple files, set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ultiSel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appears on the title bar of the dialog 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purpose of the Applicatio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 error handler that will execute when a run-time error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OpenFileDialog and SaveFileDialog controls to open and sav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RichTextBox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with rich text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 resize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 the contents of a RichText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zooming and justification with a RichText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to 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enFileDialog and SaveFileDialo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Events and Method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leO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vent fires when the user clicks the OK button in the dialog 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owDialo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thod displays the dialog 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enFileDialog and SaveFileDialog (Illustra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5202360" cy="3205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>
            <a:off x="2895480" y="21337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981080"/>
            <a:ext cx="20574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2590920"/>
            <a:ext cx="205740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fo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123720" y="2438280"/>
            <a:ext cx="6858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971800" y="5105520"/>
            <a:ext cx="22860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2438280"/>
            <a:ext cx="0" cy="304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95120" y="27432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3200400"/>
            <a:ext cx="20574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895120" y="3352680"/>
            <a:ext cx="175284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4572000"/>
            <a:ext cx="20574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971440" y="4800600"/>
            <a:ext cx="21337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4952880"/>
            <a:ext cx="20574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fining the Filter (Introduc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est part of using the OpenFileDi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o display filters having a specific file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y stores a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ring contains pairs made up of descriptions and filte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ach description and filter are separated by a vertical ba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ng the Filter (Synta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[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scription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ter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scription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ter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instance of the OpenFileDialog or SaveFileDialog con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scrip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s description that appears in the control in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tains the three-character file extension preceded by "*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e careful not to put spaces between filters and descript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ng the Filter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 for Text files, RTF files, and al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fault filter is second filt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3381480"/>
            <a:ext cx="792468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fdMain.Filter = "Text Files (*.txt)|*.txt|" &amp;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Rich Text (*.rtf)|*.rtf|All Files (*.*)|*.*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fdMain.FilterIndex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fdMain.ShowDialog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ing Multiple 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property contains an array of str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ne element exists in the array for each file selected by the us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4114800"/>
            <a:ext cx="7848360" cy="173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intCount As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strCurrentFile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intCount = 0 to ofdMain.FileNames.GetUpperBound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trCurrentFile = ofdMain.FileNames(pint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' Statements to process pstrCurrent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ich Text Format (Introduc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 to HTML in that both contain tags an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word processing applications can read and write RTF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95280" y="3962520"/>
            <a:ext cx="701064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RichTextBox Control (Introduc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an intrinsic text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r can edit tex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upports additional properties to format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lor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on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isplay formatting attribut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Boldface, underlining, and italic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ored in a format called RichText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prefix is "rt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RichTextBox Control (Properties 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cept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controls what happens when pressing the Tab k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ither embed a tab character in the text or advance to the next control instance in the tab ord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tectUr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uses the control to recognize UR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URLs appear underlined and in a different colo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ultil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rollBa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ies have the same meaning used with a text 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Marg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defines rightmost limit for 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rollBa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controls when scroll bars app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edR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defines selected 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ormatting codes are include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ichTextBox Control (Properties 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edT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defines the current text selected by the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ionCol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fines color of selected text or insertion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ionFo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fines font of selected text or insertion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ionSta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tains an Integer defining starting character of selected 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ionLeng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tains an Integer defining number of selected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ZoomFact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icates zoom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is equal to 10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75 is 75% and so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Application Class (General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properties that define the general characteristics of a running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efined by VB 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You do not declare a variable to reference the Application clas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Application class is stat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You do not create an instance of i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ichTextBox Control (Method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removes all text from the control in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p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copies the selected text to the Windows clipboa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removes selected text and places it in the clipboa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oad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reads a text or RTF file from the di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s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copies the contents of the clipboard at the insertion po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ave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saves the contents to the di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ichTextBox Control (Event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nkChang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t fires when DetectUrls property is set to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vent fires when the user double-clicks the UR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lected URL is passed as an argument to the even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Chang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t fires when contents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onChang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t fires when different text is selected or the insertion point is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ading Rich Text 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adFi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thod reads a file from th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LoadFil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( 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filetyp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RichTextBoxStreamTyp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argument contains file to load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Filetype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argument defines how to load the fil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TextBoxStreamType.Rich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TextBoxStreamType.Plain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ading RichTextFiles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the file named demo.txt as a rich text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tbMain.LoadFile( _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A:\Chapter.10\Startup10\demo.txt", _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ichTextBoxStreamType.RichTex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ving RichText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eFile method saves a file to th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aveFil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( 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filetyp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RichTextBoxStreamTyp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argument contains file to load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Filetype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argument defines how to load the fil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TextBoxStreamType.Rich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TextBoxStreamType.Plain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ving RichTextFiles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 the file named demo.txt as a rich text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tbMain.SaveFile( _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A:\Chapter.10\Startup10\demo.txt", _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ichTextBoxStreamType.RichTex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ling Resize Ev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 that most forms are resiz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form gets resized, the control instance must get resized to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of a form is controlled by the Size propert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t the form's size by creating an instance of the Size structure and assigning it to the Size propert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ntrol instances are resized in the same wa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izing a RichTextBox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llowing makes the size of the rich text box the same as the size of the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tbMain.Size = New 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Drawing.Size(Me.Width, 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.Heigh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Basics of Do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ockStyle and Anchor properties control how control instances align with each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 control instance can be docked to its container (typically a form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control instance will resize with the form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 control instance can be anchored to its par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position of the control instance relative to its container (form) will remain constan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ormatting a RichTextBox (Introduc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ser typically formats text by selecting it and applying a formatting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user selects text, the marked text is called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no text is selected, the position of the cursor is called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er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apply text formatting you apply a formatting attribute to the selection or inser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Application Class (Properti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ny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Gets the name of the company associated with th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ecutable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Contains the path name of the executable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ful to find files stored in the application fold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Contains a descriptive name for the appl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Ve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tores version information applicable to th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ting a RichTextB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ectionFo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ectionCol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other attributes all work the same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roperty supports three possible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the selection contains characters having a mix of the selected attribut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the attribute is select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the attribute is not appli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ormatting Attributes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nu items based on the formatting attributes currently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2971800"/>
            <a:ext cx="6477120" cy="3196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ub UpdateMenuItems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tbMain.SelectionFont.Italic = True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muFormatItalic.Checked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muFormatItalic.Checked =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tbMain.SelectionFont.Bold = True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muFormatBold.Checked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muFormatBold.Checked =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tbMain.SelectionFont.Underline = True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muFormatUnderline.Checked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muFormatUnderline.Checked =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Sub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Col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lorDialog control allows the user to set colors from a color palet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ndard prefix is "cd"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ntrol is not visible at run time so it appears in the form's resizable tra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ntrol works similar to the OpenFileDialog used previousl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et the desired properties firs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all the ShowDialog method to display the control instanc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lorDialog Control (Illustra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5262480" cy="3762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33520" y="259092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colors appear on th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434340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 colors appear on the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lorDialog Control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Properties and Method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owFullO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, if set to True, allows the user to define custom col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y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termines whether control displays all col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stom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ts or sets the custom colors displayed in the ColorDi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ea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O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determines whether custom colors appear initi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owDialo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displays the control instance to th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Fo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ntDialo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rol works like other common controls like the ColorDi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rst, set up the properti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isplay the dialog by calling the ShowDialog metho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se the font selected by the user as necessar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ntDialog Control (Properti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perty defines font col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plicates some capabilities of the ColorDialog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o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perty contains the selected fo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ax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perties control the minimum and maximum font sizes selectable by the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howApp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perty controls whether an Apply button appea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howCol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perty, if True, allows the user to select a col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howEffec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perty controls whether or not the user can select font eff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ontDialog Control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Events and Method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p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vent fires when the user clicks the Apply but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owDialo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thod displays the dialog box to the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ontDialog Control (Illustra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2387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ichTextBox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Misc. Capabiliti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efine the right margin for right-justified text, set the RightMargin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possible to configure the control instance to detect Uniform Resource Locators (URL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spond to the LinkClicked event handl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rgument e.LinkText contains the link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Application Class (Illustra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values using the AssemblyInfo.vb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king to Web P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the URL start a pro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method takes one argument, the program to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explore is program name for Internet Explor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Diagnostics.Process.Start( 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Iexplore www.course.com"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Application Class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properties of the Application class in Label control instances created on the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429000"/>
            <a:ext cx="761976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blCompany.Text = Application.Compan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blProductName.Text = Application.Produc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ProductVersion.Text = Application.ProductVer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roduction to Structured Error Handl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-time errors will occur in cases of numeric overflow, type conversion problems, file not found on the disk, and so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un-time errors are called exceptio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rror will execute a block of statements when a run-time error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ogram will continue running instead of generating a run-time err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isplay a message box to the user advising them of the error and how to correct i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ructured Error Handle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Syntax 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rnam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rnam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ructured Error Handle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Syntax 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marks the beginning of the structured error hand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marks the code that will execute when an exception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ultiple Catch blocks are allowed to handle different types of except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mpare to a Select Case statemen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al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marks the statement block that will execute whether or not an error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marks the end of the error hand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26:29Z</dcterms:created>
  <dc:creator>Michael V. Ekedahl</dc:creator>
  <dc:description/>
  <dc:language>en-US</dc:language>
  <cp:lastModifiedBy>New User</cp:lastModifiedBy>
  <dcterms:modified xsi:type="dcterms:W3CDTF">2002-07-15T16:53:56Z</dcterms:modified>
  <cp:revision>935</cp:revision>
  <dc:subject/>
  <dc:title>CHAPTER 1</dc:title>
</cp:coreProperties>
</file>