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476E-8C71-4DDD-9765-5256F777B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0E35-7DF5-4063-8B71-7209508B0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0AE9-02E8-4A6E-9A73-83B865992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CCAD-749B-4029-AE07-8A05B4C40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B8707-EF19-4790-8516-68531165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3E16C-E944-434C-B1AA-731026F3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F64A5-9BA6-449E-9FE3-D53EFF27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F7E26-E2CD-4A3D-95A9-063648A0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C9F1B-E769-47C7-95B8-9915661C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6679A-5A7B-4F95-85CA-3A6C9210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B2C5B-57FA-4D6D-B93E-473095F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34DA-0149-45FF-A0F0-30E95F763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231F0-92B6-4347-9CBB-6D791254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DB702-8963-4477-9A81-BA008E75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1FDB0-1067-4428-8459-8AC7FF9A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4819B-00B7-4B0F-832E-0A8790E1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0DD33-2A4B-4674-8B6C-A0D74A94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8F03-758A-494D-973A-966E8EEE7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7433-EAAA-40CA-B9C6-D24519D02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DD7B-41FE-4952-9797-0019E4311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346B-E20F-4359-B9AE-9C7D4CF90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E365-C7F7-4E14-AC91-4240E58A9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6324-4A0B-49D6-B91B-54D2667ED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B29B-DDA4-4B86-B48F-709DA918B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976F-70B0-4512-98A6-A34D6BED34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C8FE01A7-608A-4416-8D7B-7D38821F374E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391D-498D-4B78-A463-96DA74BE64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ppendix C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ystal Repor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a Connection (Step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ate the Field 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base Fiel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 / Remov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LE DB (ADO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the prov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the database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Exper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og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FIGC-04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533736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nection Informa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og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FIGC-05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8276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Control Instance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 a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stal Reports supports three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isplays literal te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Lin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isplays a horizontal or vertical lin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Box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raws a flat or 3-dimensional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s you would with any other control in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properties using the Properties window or the Format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 Edit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order Ta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FIGC-06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8880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 Edito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Font Ta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FIGC-07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38876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s display database information or special information such as the current date or a pag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Field Explorer to select fields and draw them in the Crystal Reports visual de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 fields using the Format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F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FIGC-08" descr=""/>
          <p:cNvPicPr/>
          <p:nvPr/>
        </p:nvPicPr>
        <p:blipFill>
          <a:blip r:embed="rId1"/>
          <a:stretch/>
        </p:blipFill>
        <p:spPr>
          <a:xfrm>
            <a:off x="351000" y="1905120"/>
            <a:ext cx="8793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eld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 lines by setting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ttomLine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ftLine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ightLineStyle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LineSty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rAlign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allows you to justify th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Col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Col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rols background and text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sDropShad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draws a shadow around the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rting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Record Sort Order dialog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s to sort a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lect the field on which you want to sort from the Available Fields sec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lect Ascending or Descending in the Sort Direction dialog bo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report using Crystal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control instances and fields on a re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formul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subtotals and totals on a re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special fields to display dates and pag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a report using the Crystal Report Vie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rd Sort Order Dialog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FIGC-09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57402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s are an integral part of most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ormulas to perform calculations on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ormulas to calculate sub totals and tot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 Editor to create formu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mula Editor is made up of three tre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lists the field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lists mathematical and statistical func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Operato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lists arithmetic and other operato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ula Edi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FIGC-10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0311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Running Tot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running totals to calculate sub totals and tot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reate Running Total Field dialog box allows you to create the running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ummariz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text box defines the table name and field na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ummary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ecifies how the field is summariz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Evaluat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ect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s when the summary field is evalua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ection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controls when the total is rese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Running Total Field Dialog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FIGC-11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5114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fields are nothing more than ordinary Fields that Crystal Reports configure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Fields dis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age numb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at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cord numb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many mo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ing a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n instance of the CrystalReportViewer on the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ort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erty to the name of the re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wPrintButt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isplay a print button on the di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wZoomButt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isplay a zoom button on the di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ystal Report Vie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FIGC-13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1788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Crystal Repo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Crystal Reports to create presentation quality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ystal Reports supports different types of reports including columnar reports and gra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ystal Reports interacts with data stored in a 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reports in a visual way by creating control instances in a visual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ystal Reports hides most programming logic from the develo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n existing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Project, and then click Add New Item to activate the Add New Item dialog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the Utility project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Crystal Report in the Templates p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the report a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New Item Dialog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FIGC-01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467240" cy="3297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52480" y="3200400"/>
            <a:ext cx="19814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U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33560" y="335268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514600"/>
            <a:ext cx="19814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Cryst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733920" y="2743200"/>
            <a:ext cx="39621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the Report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FIGC-02" descr=""/>
          <p:cNvPicPr/>
          <p:nvPr/>
        </p:nvPicPr>
        <p:blipFill>
          <a:blip r:embed="rId1"/>
          <a:stretch/>
        </p:blipFill>
        <p:spPr>
          <a:xfrm>
            <a:off x="4753080" y="2209680"/>
            <a:ext cx="3225600" cy="3810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38280" y="3581280"/>
            <a:ext cx="19814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report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419360" y="388620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ank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FIGC-0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4073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ystal Report Desig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ool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in toolbar allows you to open and close window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sert toolbar allows you to insert charts and pictur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Explorer works like the Tool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it to create fields on a repor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 S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s are divided into s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epor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ead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prints on the first page of the repor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ead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fines the header appearing at the top of each p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oot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ppears at the bottom of each p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etail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ection contains one line for each recor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Repor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ooter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ppears after all detail lines have prin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eader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Footer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llow you to print subtotal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7-15T20:32:56Z</dcterms:modified>
  <cp:revision>870</cp:revision>
  <dc:subject/>
  <dc:title>CHAPTER 1</dc:title>
</cp:coreProperties>
</file>