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453F-4807-4387-AA3C-D0A31C805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38C2-1494-4CEC-929B-4B85C795F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9117-430A-466B-8A1B-67A00A320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44D2-12E9-4D4B-9CF0-80541F609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721CD-60AF-436D-8CF5-B44E86B3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02756-5385-47FB-A3B8-E296A11C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CAB27-CEFC-4558-93EB-4DFFBA89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8FF8F-AABA-442F-A12F-2FB43587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DF1B2-4324-4ADB-BEEE-3B00E5C6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0CA07-0DF2-496A-800C-A4F3DBE0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D3C97-EB67-46FB-88F9-453FD7E3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2E33-544B-4364-A269-51BDDCB3E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35696-8C0A-49CE-A97A-660BDFA0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40B41-31D5-4FCC-978E-9D9264DA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7DCE3-5331-417E-9CEF-4581F06E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842A0-12C4-4C0C-8A80-108D98F1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56B3F-10DB-4C9B-92AF-33D3D85E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20FD-E38E-4E95-9146-54C0FEF0A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7F9C-91BD-4BF0-AD5B-BB996EB36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69FF-0A4E-496F-96E0-18C6775DA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67F0-7037-4001-9C32-9AAB969B2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B3CF-2092-40A2-A7CE-55E630FFE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7BB0-6E39-469E-8798-E1E83B03A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05A3-199D-4BAB-9561-9BD4DAF42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87B5-5A6A-4563-A1D8-3F58FDC1A6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D188051A-1315-4B52-89F9-1E4CF93C0263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8536-AB9D-4308-BC87-1132BAD1F5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newlogo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ppendix B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base Desig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able consists of 1 or more fie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ach field has a data typ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ata types are similar between Access and Visual Basic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 and fields names can be 64 character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not begin with a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 names can contain sp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use special characters in table or field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eld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fields support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field must have a valu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owZero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termines whether an empty string is O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reate an index on field to improve performan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quirements for Field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um of 64 characters i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characters are not allow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xclamation poi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racke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postrophe charact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Data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strings between 1 and 255 charac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Num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Each record created is numbered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rr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Numeric data used with dollar am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e/Ti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Stores dates and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m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Strings up to 64,000 charac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Numeric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s/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Similar to Boolea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FIGB-03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4614840" cy="32925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new Tabl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ables tab on Database window, and then click new to activate Table di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3398760" y="3581280"/>
            <a:ext cx="1706760" cy="18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3352680"/>
            <a:ext cx="21337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new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new Tabl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FIGB-0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698720" cy="3643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219320" y="2362320"/>
            <a:ext cx="15238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Design View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new Tabl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e the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FIGB-05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63784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Relation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lationships between tables and the fields in those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ols and then click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FIGB-06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3890880" cy="3019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09880" y="4419720"/>
            <a:ext cx="12193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4191120"/>
            <a:ext cx="17524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Tables to add to the 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onships Dia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FIGB-07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3673440" cy="2541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352680" y="3352680"/>
            <a:ext cx="12193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312408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e fields in the 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tial Integ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les to preserve the defined relationships between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tempts to violate referential integrity rules will cause a run-time err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cade Update Related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pdate in master table causes update in detail tab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cade Delete Related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leting master records causes detail records to be delet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limitations of traditional file-process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new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tables with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lationships to describe how different fields are associated with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queries based on two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onships Wind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6" name="FIGB-08" descr=""/>
          <p:cNvPicPr/>
          <p:nvPr/>
        </p:nvPicPr>
        <p:blipFill>
          <a:blip r:embed="rId1"/>
          <a:stretch/>
        </p:blipFill>
        <p:spPr>
          <a:xfrm>
            <a:off x="3537000" y="2881440"/>
            <a:ext cx="5226120" cy="2760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362320" y="3200400"/>
            <a:ext cx="12189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2971800"/>
            <a:ext cx="221004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s appear in the Relationships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lized set of instructions to return data from one or more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ccess uses Query By Example (QBE) to create queri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Queries tab in Database window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Query Dia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2" name="FIGB-09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4155840" cy="29811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819520" y="3505320"/>
            <a:ext cx="12189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3276720"/>
            <a:ext cx="152424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ies sel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334120" y="3123720"/>
            <a:ext cx="0" cy="12193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4114800"/>
            <a:ext cx="1524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new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4343400"/>
            <a:ext cx="2514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BE Wind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9" name="FIGB-10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7658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mitations of Traditional File Processing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file-processing systems preceded databas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 of traditional file-process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ata redundancy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Each application has its own data fil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Inconsistent data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A person's name may be changed in one file but not in anoth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Limited data sharing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– Files formats are likely different from one application to the nex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Low programmer productivity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a Data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structure is known as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schema describes tables, fields, and relationships between tab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ata item is analogous to a fiel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mallest unit of data having meaning to the user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ata items (fields) are grouped into data aggregates called tabl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One field in a table is typically designated as a primary ke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ary key must be un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20720" y="2438280"/>
            <a:ext cx="5902560" cy="2822760"/>
            <a:chOff x="1620720" y="2438280"/>
            <a:chExt cx="5902560" cy="2822760"/>
          </a:xfrm>
        </p:grpSpPr>
        <p:grpSp>
          <p:nvGrpSpPr>
            <p:cNvPr id="121" name=""/>
            <p:cNvGrpSpPr/>
            <p:nvPr/>
          </p:nvGrpSpPr>
          <p:grpSpPr>
            <a:xfrm>
              <a:off x="1623960" y="2440440"/>
              <a:ext cx="5896080" cy="2817360"/>
              <a:chOff x="1623960" y="2440440"/>
              <a:chExt cx="5896080" cy="2817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623960" y="2440440"/>
                <a:ext cx="2948040" cy="469440"/>
                <a:chOff x="1623960" y="2440440"/>
                <a:chExt cx="2948040" cy="4694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692360" y="2440440"/>
                  <a:ext cx="2811240" cy="46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lient I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623960" y="2440440"/>
                  <a:ext cx="2948040" cy="46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572000" y="2440440"/>
                <a:ext cx="2948040" cy="469440"/>
                <a:chOff x="4572000" y="2440440"/>
                <a:chExt cx="2948040" cy="469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640040" y="2440440"/>
                  <a:ext cx="2811600" cy="46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lesperson I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572000" y="2440440"/>
                  <a:ext cx="2948040" cy="46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623960" y="2909880"/>
                <a:ext cx="2948040" cy="469800"/>
                <a:chOff x="1623960" y="2909880"/>
                <a:chExt cx="2948040" cy="469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692360" y="2909880"/>
                  <a:ext cx="281124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ast Nam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623960" y="2909880"/>
                  <a:ext cx="294804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572000" y="2909880"/>
                <a:ext cx="2948040" cy="469800"/>
                <a:chOff x="4572000" y="2909880"/>
                <a:chExt cx="2948040" cy="4698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640040" y="2909880"/>
                  <a:ext cx="281160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les Dat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572000" y="2909880"/>
                  <a:ext cx="294804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623960" y="3379680"/>
                <a:ext cx="2948040" cy="469440"/>
                <a:chOff x="1623960" y="3379680"/>
                <a:chExt cx="2948040" cy="4694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692360" y="3379680"/>
                  <a:ext cx="2811240" cy="46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irst Nam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623960" y="3379680"/>
                  <a:ext cx="2948040" cy="46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572000" y="3379680"/>
                <a:ext cx="2948040" cy="469440"/>
                <a:chOff x="4572000" y="3379680"/>
                <a:chExt cx="2948040" cy="4694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640040" y="3379680"/>
                  <a:ext cx="2811600" cy="46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les Amou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572000" y="3379680"/>
                  <a:ext cx="2948040" cy="46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623960" y="3849120"/>
                <a:ext cx="2948040" cy="469440"/>
                <a:chOff x="1623960" y="3849120"/>
                <a:chExt cx="2948040" cy="4694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692360" y="3849120"/>
                  <a:ext cx="2811240" cy="46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elephone Numb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623960" y="3849120"/>
                  <a:ext cx="2948040" cy="46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572000" y="3849120"/>
                <a:ext cx="2948040" cy="469440"/>
                <a:chOff x="4572000" y="3849120"/>
                <a:chExt cx="2948040" cy="4694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640040" y="3849120"/>
                  <a:ext cx="2811600" cy="46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les Descrip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72000" y="3849120"/>
                  <a:ext cx="2948040" cy="46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623960" y="4318560"/>
                <a:ext cx="2948040" cy="469800"/>
                <a:chOff x="1623960" y="4318560"/>
                <a:chExt cx="2948040" cy="4698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692360" y="4318560"/>
                  <a:ext cx="281124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stimated Sa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23960" y="4318560"/>
                  <a:ext cx="294804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572000" y="4318560"/>
                <a:ext cx="2948040" cy="469800"/>
                <a:chOff x="4572000" y="4318560"/>
                <a:chExt cx="2948040" cy="4698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640040" y="4318560"/>
                  <a:ext cx="281160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572000" y="4318560"/>
                  <a:ext cx="294804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623960" y="4788360"/>
                <a:ext cx="2948040" cy="469440"/>
                <a:chOff x="1623960" y="4788360"/>
                <a:chExt cx="2948040" cy="4694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692360" y="4788360"/>
                  <a:ext cx="2811240" cy="46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623960" y="4788360"/>
                  <a:ext cx="2948040" cy="46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572000" y="4788360"/>
                <a:ext cx="2948040" cy="469440"/>
                <a:chOff x="4572000" y="4788360"/>
                <a:chExt cx="2948040" cy="4694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640040" y="4788360"/>
                  <a:ext cx="2811600" cy="46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572000" y="4788360"/>
                  <a:ext cx="2948040" cy="46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1620720" y="2438280"/>
              <a:ext cx="5902560" cy="282276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Aggregates (tabl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data items stored and referenced as 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20720" y="3200400"/>
            <a:ext cx="5902560" cy="3124080"/>
            <a:chOff x="1620720" y="3200400"/>
            <a:chExt cx="5902560" cy="3124080"/>
          </a:xfrm>
        </p:grpSpPr>
        <p:grpSp>
          <p:nvGrpSpPr>
            <p:cNvPr id="162" name=""/>
            <p:cNvGrpSpPr/>
            <p:nvPr/>
          </p:nvGrpSpPr>
          <p:grpSpPr>
            <a:xfrm>
              <a:off x="1623960" y="3202560"/>
              <a:ext cx="5896080" cy="3119040"/>
              <a:chOff x="1623960" y="3202560"/>
              <a:chExt cx="5896080" cy="31190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1623960" y="3202560"/>
                <a:ext cx="2948040" cy="445320"/>
                <a:chOff x="1623960" y="3202560"/>
                <a:chExt cx="2948040" cy="4453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692360" y="3202560"/>
                  <a:ext cx="28112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lients Tabl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23960" y="3202560"/>
                  <a:ext cx="29480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572000" y="3202560"/>
                <a:ext cx="2948040" cy="445320"/>
                <a:chOff x="4572000" y="3202560"/>
                <a:chExt cx="2948040" cy="4453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640040" y="3202560"/>
                  <a:ext cx="281160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les Tabl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572000" y="3202560"/>
                  <a:ext cx="29480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623960" y="3647880"/>
                <a:ext cx="2948040" cy="445680"/>
                <a:chOff x="1623960" y="3647880"/>
                <a:chExt cx="2948040" cy="4456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692360" y="3647880"/>
                  <a:ext cx="2811240" cy="44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lient I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623960" y="3647880"/>
                  <a:ext cx="2948040" cy="44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572000" y="3647880"/>
                <a:ext cx="2948040" cy="445680"/>
                <a:chOff x="4572000" y="3647880"/>
                <a:chExt cx="2948040" cy="4456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640040" y="3647880"/>
                  <a:ext cx="2811600" cy="44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lient I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72000" y="3647880"/>
                  <a:ext cx="2948040" cy="44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623960" y="4093920"/>
                <a:ext cx="2948040" cy="445320"/>
                <a:chOff x="1623960" y="4093920"/>
                <a:chExt cx="2948040" cy="445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692360" y="4093920"/>
                  <a:ext cx="28112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ast Nam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623960" y="4093920"/>
                  <a:ext cx="29480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572000" y="4093920"/>
                <a:ext cx="2948040" cy="445320"/>
                <a:chOff x="4572000" y="4093920"/>
                <a:chExt cx="2948040" cy="4453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640040" y="4093920"/>
                  <a:ext cx="281160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lesperson I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572000" y="4093920"/>
                  <a:ext cx="29480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23960" y="4539240"/>
                <a:ext cx="2948040" cy="445320"/>
                <a:chOff x="1623960" y="4539240"/>
                <a:chExt cx="2948040" cy="4453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92360" y="4539240"/>
                  <a:ext cx="28112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irst Nam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623960" y="4539240"/>
                  <a:ext cx="29480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572000" y="4539240"/>
                <a:ext cx="2948040" cy="445320"/>
                <a:chOff x="4572000" y="4539240"/>
                <a:chExt cx="2948040" cy="4453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640040" y="4539240"/>
                  <a:ext cx="281160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les Dat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572000" y="4539240"/>
                  <a:ext cx="29480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623960" y="4984920"/>
                <a:ext cx="2948040" cy="445680"/>
                <a:chOff x="1623960" y="4984920"/>
                <a:chExt cx="2948040" cy="4456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692360" y="4984920"/>
                  <a:ext cx="2811240" cy="44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elephone Numb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623960" y="4984920"/>
                  <a:ext cx="2948040" cy="44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572000" y="4984920"/>
                <a:ext cx="2948040" cy="445680"/>
                <a:chOff x="4572000" y="4984920"/>
                <a:chExt cx="2948040" cy="4456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4640040" y="4984920"/>
                  <a:ext cx="2811600" cy="44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les Amou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72000" y="4984920"/>
                  <a:ext cx="2948040" cy="44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23960" y="5430600"/>
                <a:ext cx="2948040" cy="445320"/>
                <a:chOff x="1623960" y="5430600"/>
                <a:chExt cx="2948040" cy="4453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692360" y="5430600"/>
                  <a:ext cx="28112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stimated Sa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23960" y="5430600"/>
                  <a:ext cx="29480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572000" y="5430600"/>
                <a:ext cx="2948040" cy="445320"/>
                <a:chOff x="4572000" y="5430600"/>
                <a:chExt cx="2948040" cy="4453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640040" y="5430600"/>
                  <a:ext cx="281160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les Descrip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572000" y="5430600"/>
                  <a:ext cx="29480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623960" y="5876280"/>
                <a:ext cx="2948040" cy="445320"/>
                <a:chOff x="1623960" y="5876280"/>
                <a:chExt cx="2948040" cy="4453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692360" y="5876280"/>
                  <a:ext cx="28112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623960" y="5876280"/>
                  <a:ext cx="29480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572000" y="5876280"/>
                <a:ext cx="2948040" cy="445320"/>
                <a:chOff x="4572000" y="5876280"/>
                <a:chExt cx="2948040" cy="4453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40040" y="5876280"/>
                  <a:ext cx="281160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572000" y="5876280"/>
                  <a:ext cx="29480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1620720" y="3200400"/>
              <a:ext cx="5902560" cy="312408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oc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 between data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lso known as a quer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-to-many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ne row in one table associated with multiple rows in another tab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ne-to-many associations are often called master-detail associati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ata from the two tables is associated based on a common fiel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FIGB-02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6019920" cy="34588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Data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ols to create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Appendix, we us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4495680"/>
            <a:ext cx="12189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4267080"/>
            <a:ext cx="1524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blank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Database (Step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Microsoft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he Blank Databas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er the file name of th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New User</cp:lastModifiedBy>
  <dcterms:modified xsi:type="dcterms:W3CDTF">2002-07-15T20:36:51Z</dcterms:modified>
  <cp:revision>870</cp:revision>
  <dc:subject/>
  <dc:title>CHAPTER 1</dc:title>
</cp:coreProperties>
</file>