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438B-5030-4679-A382-BEA9F47A4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6423-4D72-4081-8410-9100D68B7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6EA83-909E-4377-B95D-C2C16D5AC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D164-8D19-4FB6-B757-E20682DE5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F12A3-83A7-42B5-A055-245A6A1C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BB562-4BD4-46CF-9867-60ADCF31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5AB73-EAC2-4F18-9042-47E1000A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1DAD5-B7F4-4DFA-B0F5-00728210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D5634-A02E-4E6F-88F7-AD075368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71200" y="92016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9F530-527C-450F-999F-ACD850F5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605D6-B1BE-496E-BCEE-9BBC2F27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CAAC-E547-4604-9241-64FCBF4F0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6358E-E6BC-4427-98E1-932F2C43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ED3EF-E252-4635-892F-8FDCCF02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BB97B-92E2-4FA6-BDF3-24273F5A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BBF83-C18C-4D65-9ACE-409EDACD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3FC5D-2F21-4398-B9B5-743ECAFA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08C7-0A25-4BBF-A2E9-E03AD8FC5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33ED-0257-45B2-9FB4-2B1EB4981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09E5-4F70-4B4B-AD66-A850960E5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71200" y="92016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C287-1026-4A38-9BD5-5D6408663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A5B7-8489-480B-8DD7-72E663CE6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4CB2-EAE5-4673-BCA7-8624A2527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127C-43CA-46DC-848B-6C8775782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1"/>
          </p:nvPr>
        </p:nvSpPr>
        <p:spPr>
          <a:xfrm>
            <a:off x="914400" y="6286680"/>
            <a:ext cx="557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pared by J. Carissimo – CECS Department - CSUL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2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B4D6E4A2-48C4-4459-9045-BA8AD037C2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C355-268E-45B8-892C-5C267A30EF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mportant Features of .NE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Language Runtime (CL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d Code and Exec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mediate Language (MSI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st-In-Time Compi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mblies and the Assembly Manif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 to DLL Hel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bal Assembly Cac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Typ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Global Assembly Cache (GAC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 though components in .NET do not have to be registered, there is a similar process if you want an assembly that is used by multiple a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AC is where a component is placed if multiple applications are to use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component is not found in the same directory is the executing app, then the GAC is search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version numbers of the same componet can be placed in the GA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ommon Type System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mon type system specifies the types supported by the CLR. They incl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es – The definition of what will become an object; includes properties, methods and ev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faces – The definition of the functionality a class can implement, but does not contain any co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lue Types – User defined data types that are passed by val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egates – Similar to function pointers in C++, delegates are used for event handling and call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following the type system, vendors can produce code that works with other langua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ittle more about each typ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ass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properties, methods, events, and fields (public variables in a class) of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class has one or more methods that do not contain any implementation code, the class is said to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VB.NET, CAN create a class that has implementation code and then mark the class as abstract (‘implementation inheritance’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 not possible to do this in VB6 (had only ‘interface inheritance’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ass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an abstract class can contain implementation code, other classes can inherit from that class and either use the implementation in it, or override the implementation as nee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tract classes cannot be instantiated directly – another class must inherit from th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es also have ‘characteristics’ that are stored in the metadata, e.g., whether or not the class is inheri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erfac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interfaces in VB6: They are definitions of a class without the actual implement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not instantiate an interface, it must be implemented in a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ementation inheritance and interfaces give the ability to implement polymorphism – more later on this top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Value Ty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andard variable type such as integer, is native to the language – it is passed by value when used as an argu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s, on the other hand, are always passed by refer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Value Typ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user defined type that acts a lot like an object, but is passed by val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can contain fields, properties, events and metho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Delegat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pointers to functions in C++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ually points to a method on a particular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method it points to on which object can be set when the instance of the delegate is created at the declar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egates are most often used to handle ev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can pass events to a centralized event hand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31104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.NET Framework Class Library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a number of classes that are already created and ready for use in any language that targets the CL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spa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oups classes and members into logical nodes. Possible to have the same name for a method in different namesp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xample, for data access, do not set a reference to the ADO.NET component. Instead, import the System.Data namesp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orts System.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elf Describing Component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assemblies contai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data contains all info about types, members and references in the assemb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data contains the follow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 or assembly identity: name, version, public 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endencies on other assemb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 roles and permi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orted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e, visibility, base class, implemented interf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ross-Language Interoperability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inherit classes from one PE written in language A, and use them in language 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bugging works across multiple langua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-language interoperability is now happening at both run and design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achieve this, use only the data types in the CLS (Common Language Specification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ing with VB.NET requires that you work closely with the .NET framework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Features of .NE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amework Class Libr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-Language Interop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a brief look at each of these featur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ommon Language Runtim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host a variety of languages and offer a common set of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B.NET, C#, C++, Perl, COBOL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s: Exception Handling, Security, Debugging, Vers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compiled for the CLR is called ‘Managed Code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R controls Garbage Collection for Managed Code – no more circular referenc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31104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Manged Code and Managed Execu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nces of objects created through Managed Code are called Managed 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s a standard typ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language interoperability at design time; COM provided this only at run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derive a class from C# while writing VB.NET co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nent information no longer needs to be stored in the registry – compiled code contains meta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ermediate Language (MSIL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is not compiled to native machine code. Instead is is compiled to MSIL Microsoft Intermediate Languag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IL is machine independ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iled code contains both IL and ‘metedata’. The metadata contains information about the types, members and references in the IL code. This file is called a ‘PE’ (portable executable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.NET language can inherit from classes in this fi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Just-In-Time Compil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IL (IL for short) code is platform independ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code is run, it is compiled to native code for that plat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JIT compiler must be available for each platform on which the .NET framework ru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y this is just Windows, but this could change in the fu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the IL is not compiled at the same time – it is compiled as needed. There as a tool calle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gen.ex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can compile the entire IL fi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sembli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what similar to DLLs that have been used in the pa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runtime applications are made up of one or more assembl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contain classes, images, resource files or other binary f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st as a COM DLL can contain a type library, the assembly has a ‘Manifest’ that contains metadata such as classes, types and references contained in the I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Assembly Manifes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information about all the items in the assembly, including which parts of the assembly are exposed to the outside wor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assembly’s dependencies on other assemblies (like the old .OCA fil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ong other things, contains the assembly name, version, files contained, other referenced assembl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assembly is required t have a manif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End to DLL Hell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iously when distributing an App, supporting DLLs also had to be distributed and registe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Apps installed different version of the same D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ce a DLL was entered into the registry, all Apps used that same D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s were supposed to be immutable, but developers released versions that broke binary compatibilit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mbly now specifies which version to use (‘side-by-side instancing’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08:28:27Z</dcterms:created>
  <dc:creator>Joel Carissimo</dc:creator>
  <dc:description/>
  <dc:language>en-US</dc:language>
  <cp:lastModifiedBy>Joel Carissimo</cp:lastModifiedBy>
  <dcterms:modified xsi:type="dcterms:W3CDTF">2003-03-10T08:41:55Z</dcterms:modified>
  <cp:revision>15</cp:revision>
  <dc:subject/>
  <dc:title>Important Features of .NET</dc:title>
</cp:coreProperties>
</file>