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239C4-A25D-429C-81B1-F4B30C79FF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7BBDC-5D58-468B-A354-A42D311AAE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A158B-1059-4492-B351-1DF1858D4E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BC5C4-9AF8-4CFE-8FCE-D7B7B528BA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229D2-758B-4957-9946-2BD3F5FA6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130BE-C873-4EBA-9893-6E59E591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B616C-F614-48F3-A6A1-28714952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71B8A-559E-4C0D-B0AB-A2658D0E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BD094-C6D1-40A5-B9A4-23AF7209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723AE-086F-42B6-9AFD-A4AB52D7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9ABDA-EB42-41B7-8676-89DAA02C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BC973-085B-4F2F-82AF-0839009888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13453-85C0-4A2C-83F5-91F46B5A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DFC74-684F-4B21-B7F0-26E6685B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0AA2D-65DD-457F-91E5-32429F40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07B82-2BDB-4C33-AEC2-F11FC66C8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4BD2C-23B1-4A81-8610-0423E62E8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89F15-549A-46CE-BDBA-88DA86888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41918-902E-42A1-A516-C68A26E43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1FDA8-2922-413A-B2B7-A5D767214C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277F4-7224-4791-8AD7-F6224CDBA0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DAC2C-3286-4470-9E7C-749F7D018D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D4BEE-B937-47AA-978E-C795B228C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FC7F3-9E2B-4BD7-9899-5B58A33C5C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FF9E-93E0-4DFF-8142-50FDAB3DCC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48520"/>
            <a:ext cx="6934320" cy="609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rogramming with Visual Basic 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n Object-Oriented Approach</a:t>
            </a:r>
            <a:r>
              <a:rPr b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324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48720" y="914400"/>
            <a:ext cx="1295280" cy="22860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952880" y="0"/>
            <a:ext cx="4191120" cy="228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095880" y="457200"/>
            <a:ext cx="3048120" cy="2286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238880" y="685800"/>
            <a:ext cx="1905120" cy="22860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228600"/>
            <a:ext cx="3429000" cy="2286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rot="41400">
            <a:off x="-1080" y="6582960"/>
            <a:ext cx="10666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Slide </a:t>
            </a:r>
            <a:fld id="{804C5556-89D2-43EE-A16E-C5B192EF16D3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00280" y="1098720"/>
            <a:ext cx="72360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228600" y="1905120"/>
            <a:ext cx="53352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"/>
          <p:cNvSpPr/>
          <p:nvPr/>
        </p:nvSpPr>
        <p:spPr>
          <a:xfrm flipH="1">
            <a:off x="685080" y="228600"/>
            <a:ext cx="27000" cy="601992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63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90520" y="2546280"/>
            <a:ext cx="230040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BB19-02AD-4B16-B079-C5ECF9BEEB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248520"/>
            <a:ext cx="6934320" cy="609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rogramming with Visual Basic 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n Object-Oriented Approach</a:t>
            </a:r>
            <a:r>
              <a:rPr b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457200" cy="6324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77120" y="914400"/>
            <a:ext cx="2666880" cy="22860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0"/>
            <a:ext cx="8077320" cy="228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457200"/>
            <a:ext cx="4572000" cy="2286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685800"/>
            <a:ext cx="3809880" cy="22860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228600"/>
            <a:ext cx="6248520" cy="22860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895480"/>
            <a:ext cx="41148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52280" y="3200400"/>
            <a:ext cx="5637240" cy="474840"/>
            <a:chOff x="152280" y="3200400"/>
            <a:chExt cx="5637240" cy="474840"/>
          </a:xfrm>
        </p:grpSpPr>
        <p:sp>
          <p:nvSpPr>
            <p:cNvPr id="69" name=""/>
            <p:cNvSpPr/>
            <p:nvPr/>
          </p:nvSpPr>
          <p:spPr>
            <a:xfrm>
              <a:off x="152280" y="3200400"/>
              <a:ext cx="322092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70000" y="3200400"/>
              <a:ext cx="28195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2438280"/>
            <a:ext cx="36720" cy="365760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639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Chapter 4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cision Making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eTime Structure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 a DateTime var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mdatCurrent As Date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the current date in the var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datCurrent = System.DateTime.Tod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the current date and time in the var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datCurrent = System.DateTime.N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eTime Structure (Method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dHour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dMinut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dSecond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dds fixed time intervals to a 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 return a DateTim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dYea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dMonth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dDa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dds fixed date interv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 return a DateTim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Str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verts a date to st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LongDateStr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ShortDateStr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verts a DateTime structure to a formatted 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LongTimeStr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ShortTimeStr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verts time to formatted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btrac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btracts a date from another 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a DateTime structure containing the time differ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eTime Structure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t the current date to a st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blDate.text = Today.ToLongDateSt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one day to the current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datNextDay As DateTime = Today.AddDays(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one month to the current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datNextMonth As DateTime = _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day.AddMonths(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ract one day from the current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datLastDay As DateTime = Today.AddDays(-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en VB .NET Loads a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 (Constructor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VB.NET initializes a form, or any class, the New procedure exec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New procedure is called a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constructo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Win Form Designer places code to initialize  control instances in the New procedur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By calling the procedure named InitializeComponent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dd your own code to perform custom initialization after the call to InitializeComponen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ructor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ollowing shows a constructor with a statement added (shown in bold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Remember to add code after InitializeComponent(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ub New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yBase.New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itializeComponent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blDate.Text = Today.ToShortDate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erforming Calculat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n Dates (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ateDif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unction computes number of intervals between two d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sul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ateDif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nterval, date1, date2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irstdayofweek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 ,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irstweekofyear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 ]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erforming Calculat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n Dates (2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ter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gument is an enum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Day, DayOfYear, Hour, Minute, Month, Quarter, Second, Weekday, WeekOfYear, and Yea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ate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ate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guments contain the two dates used in the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date1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is greater than </a:t>
            </a: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date2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, then the result is negativ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irstdayofwee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gument specifies which day of the week that VB .NET considers the first day of the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irstweekofye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gument defines which week is the first week of the y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eDiff Function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culate the number of elapsed months and years between two dates. Result is 22 months and 1 ye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mdatStart, mdatEnd As Date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mdblElapsed As Dou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datStart = System.DateTime.Toda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datEnd = System.DateTime.Today.AddMonths(2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dblElapsed = DateDiff(DateInterval.Month, mdatStart, _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datEnd,FirstDayOfWeek.Monday,FirstWeekOfYear.Jan1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dblElapsed = DateDiff(DateInterval.Year, mdatStart, _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datEnd,FirstDayOfWeek.Monday,FirstWeekOfYear.Jan1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DateTimePick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ol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the user to select date from calend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4627440" cy="3520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248520" y="3505320"/>
            <a:ext cx="23619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eTimePicker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3657600"/>
            <a:ext cx="198144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DateTimePicker Control (Propertie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controls the font appearing in the control's list p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lendarFo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controls the font appearing in the drop-down calend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lendarFore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controls the foreground color of the drop-down calend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ma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stores an enumeration defining the appearance of the 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xDate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nD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defines the minimum and maximum user-selectable 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stores current date an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constants to improve the readability of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 about the DateTime data type and perform operations on 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instances of check boxes, scroll bars, group boxes and radio butt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control in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the Boolean data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f statements and Select Case statements to make dec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ateTimePicker Control (Event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ose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vent fires when user closes drop-down calend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ueChang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vent fires when the user changes the Value property at ru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oring Values in a DateTimePick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the current date value and the maximum date value in two DateTimePicker control insta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tpStartDate.Value = Today.AddDays(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tpStartDate.MaxDate = Tod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tpEndDate.Value = Tod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tpEndDate.MaxDate = Tod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CheckBox Control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the user to select a yes / no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llows the user to select from a third choice called inde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ndeterminate usually indicates that no choice has been mad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Box displays textual description along with a box that can be checked or unchecked (or indetermina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858000" y="1143000"/>
            <a:ext cx="55260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eckBox Control (Properti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eckAl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controls position of box within the visible region of the control in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eckSt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defines whether the box is checked, not checked, or indetermin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defines the text the appearing in visible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xtAl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defines the alignment of text within the visible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reeSt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allows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eckBo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store three possible values instead of just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eckBox Control (Event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360" y="2017800"/>
            <a:ext cx="796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eckedChang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vent fires whenever value of Checked propert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– Setting the CheckState proper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kInsurance.CheckState = CheckState.Check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kInsurance.CheckState = CheckState.Uncheck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kInsurance.CheckState = CheckState.Indetermin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rollBar Control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select a value from a range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Often used to represent a percentag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Values are always integer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ntrols work the same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HScrollBa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appears horizontally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Standard prefix is "hsb"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VScrollBa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appears vertically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Standard prefix is "vsb"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Value grows as scroll bar is moved downward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638680" y="10098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400800" y="990720"/>
            <a:ext cx="7048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crollBar Control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(Properties and Event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Maximum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Minimum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- defines the valid rang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Default values are 100 and 0 respectively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- contains current value between the defined rang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Value must be between Minimum and Maximum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SmallChang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LargeChang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- controls amount of change to Value property as user clicks control instance reg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ValueChanged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event fires when user changes value property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rollBar Behavi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629400" y="1447920"/>
            <a:ext cx="1101600" cy="42638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914400" y="1981080"/>
            <a:ext cx="525780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here to change the Value property by Small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095880" y="1523880"/>
            <a:ext cx="60984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095880" y="1523880"/>
            <a:ext cx="0" cy="4572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895480"/>
            <a:ext cx="525780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here to change the Value property by Large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171840" y="3048120"/>
            <a:ext cx="121932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010280" y="3047760"/>
            <a:ext cx="0" cy="144756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3505320"/>
            <a:ext cx="52578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ve indicator of Value Prope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6171840" y="3733920"/>
            <a:ext cx="68580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crollBar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(ValueChanged Exampl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the scroll bar's value into the Label named lblFuel when the value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Sub hsbFuel_ValueChanged(. . 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blFuel.Text = hsbFuel.Value.ToSt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umericUpDow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ol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 to scroll b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Displays a value within a range of valu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Displays an adjacent label containing the current valu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same fundamental properties as scroll b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aximum, Minimum, Value properti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ValueChanged even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prefix is "nud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124080" y="1066680"/>
            <a:ext cx="639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ant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-defined constants like variables store a value while the solution ru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ue of a constant does not chan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imilar to a literal value in that regard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ntax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nstantn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[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yp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nitexp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Const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statement declares a constant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1" i="1" lang="en-US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clause defines the data type of the constant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quired when Option Strict is enabled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Initexpr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defines the value of the constan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You must assign a value to a constant when declaring it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GroupBox Control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a container for other control instances such as RadioButton control insta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Other control instances can be grouped in a GroupBox too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BackColo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ForeColo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define color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property defines text appearing at the top of the visible regi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s the Frame control found in VB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858000" y="914400"/>
            <a:ext cx="7048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adioButton Control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elects one radio button from a group of butt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alled a button group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ton group contained by a GroupBox control in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reate multiple button groups, create multiple GroupBox control insta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391520" y="990720"/>
            <a:ext cx="6285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adioButton Control (Caveat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careful when creating a butto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reate RadioButtons inside of a group box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est by moving group box. Contained radio buttons should move with the group box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copying and pasting radio buttons, select GroupBox before pasting radio butt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adioButton Control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(Properties and Event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- contains text appearing next to radio butt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Checked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- indicates whether radio button is checked or no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CheckedChanged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event fires when user clicks radio butt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prefix is "rad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adioButtons (Exampl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4791240" cy="43131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219320" y="3048120"/>
            <a:ext cx="236196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Buttons in a Button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581280" y="3200400"/>
            <a:ext cx="53352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n Introduction to Boolean Dat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ean data operates similar to an on/off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 prefix is "bln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s the values True and Fa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Note that True and False are reserved word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frequently used in decision making stat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lare a Boolean variable named mblnValid and store the values True and False in the vari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mblnValid As Boole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blnValid =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blnValid =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cision Ma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of statements called decision making statements execute different blocks of code in different circum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f some condition is True t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cute one group of stat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therw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cute a different group of stat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nd of If sta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son Operator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al statements execute one group of statements when a condition is True and another group of statements when the condition is Fa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al statements apply the following comparison operators to test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Equal to (=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Not equal to (&lt;&gt;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Less than  (&lt;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Greater than (&gt;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Less than or equal to (&lt;=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Greater than or equal to (&gt;=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mparison Operators (2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produce a Boolean value as the res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ison operators all have the same 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Note that arithmetic operations are performed before comparison operators are evaluate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ison operators are evaluated from left to r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ison operators are evaluated after any arithmetic operations ar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Use parenthesis to override the default precedenc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769680" y="4495680"/>
            <a:ext cx="2642040" cy="353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mintResult = Fals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72200" y="3809880"/>
            <a:ext cx="3678480" cy="353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mintResult = ( 5 ) &lt;= ( 4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73640" y="3124080"/>
            <a:ext cx="4196520" cy="353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mintResult = ( 5 ) &lt;= ( 5 – 1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mparison Operators (Exampl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2514600" y="44956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14600" y="31240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33920" y="312408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9548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95480" y="36576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05520" y="3352680"/>
            <a:ext cx="2057400" cy="687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arithmetic expressions from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3865680"/>
            <a:ext cx="201924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48040" y="4154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48040" y="4383000"/>
            <a:ext cx="125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05520" y="4268880"/>
            <a:ext cx="2057400" cy="342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05520" y="4876920"/>
            <a:ext cx="2057400" cy="47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is not less than 4 so the result is Fa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90840" y="5116680"/>
            <a:ext cx="171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390840" y="4779720"/>
            <a:ext cx="0" cy="33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83720" y="2373480"/>
            <a:ext cx="7046280" cy="353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mintResult = ( mintValue1 + 2 ) &lt;= ( mintValue2 – 1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8880" y="2743200"/>
            <a:ext cx="4714560" cy="353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mintResult = ( 3 + 2 ) &lt;= ( 5 – 1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ant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onstants to improve the readability of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s make a program more maintainable because a constants value can be changed in one place rather than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andard prefixes for the constants you declare to further improve read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f Stat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al operators seldom used al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onditions typically appear in a decision-making statement (If statement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e one group of statements only when condition is Tr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alled a one-way If statemen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tatements executed in an If statement are called a statement block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ne-Way If Statement (Syntax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nditio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f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tatement tests value of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tatemen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e only if condition is tr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ne-Way If Statement (Exampl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e statements when the variable mblnCondition is Tr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Note that the ( = True ) is optiona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mblnCondition As Boole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blnCondition = Tr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mblnCondition = True T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 Stat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43000" y="2286000"/>
            <a:ext cx="4876920" cy="2654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ditio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tements following the End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ne-Way If Stat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(Logic Flow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5867280" y="2514600"/>
            <a:ext cx="1371600" cy="1447920"/>
          </a:xfrm>
          <a:prstGeom prst="flowChartDecision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91320" y="4191120"/>
            <a:ext cx="78552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95880" y="2971800"/>
            <a:ext cx="914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276720" y="32767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63868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5308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952880" y="2971800"/>
            <a:ext cx="5716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76212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32767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4724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wo-Way If Stat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es one statement block when a condition is True and another statement block when condition is Fa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an If… Then… Else stat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wo-Way If Statement (Syntax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nditio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tatements (tru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tatements (fals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 tests the value of some cond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tements (tru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only if the condition is tr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tements (fals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otherw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 continues at the statement following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d 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wo-Way If Statement (Exampl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the contents of the check box named chkInsurance, store values in a Label control in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chkInsurance.CheckState = CheckState.Checked Th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blInsuranceRate.Text = cdblInsuranceRate.ToSt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blInsuranceRate.Text = "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wo-Way If Stat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(Logic Flow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1143000" y="2286000"/>
            <a:ext cx="4876920" cy="3751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ditio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tements (tr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tement (fal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tements following the End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2514600"/>
            <a:ext cx="1371600" cy="1447920"/>
          </a:xfrm>
          <a:prstGeom prst="flowChartDecision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191120"/>
            <a:ext cx="78552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95880" y="2971800"/>
            <a:ext cx="914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191120" y="32767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038120" y="4724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2971800"/>
            <a:ext cx="5716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76212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62120" y="32767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762120" y="4724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ulti-Way If Stat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 decision-making based on three or more outco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ulti-Way If Stat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(Syntax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dition1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tement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Else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dition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statem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] ]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E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tement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 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ants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lare a constant named csngPI having a data type of Single and a value of 3.1415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Const csngPI As Single = 3.14159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lare a constant named csng2PI having a data type of Single. The value uses another constant and multiplied by the literal value 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Const csng2PI As Single = csngPI *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ulti-Way If Stat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(Syntax Dissection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 tests the value of some cond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dition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rue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tement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firs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se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s exec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dition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False, th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dition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e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dition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rue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tement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llowing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ec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condition is True, the statements following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ec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 continues at the statement following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d 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ulti-Way If Statement (Exampl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2286000"/>
            <a:ext cx="5029200" cy="3385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mintGrade &gt; 90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strLetterGrade = "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mintGrade &gt; 80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strLetterGrade = "B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mintGrade &gt; 70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strLetterGrade = "C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mintGrade &gt; 60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strLetterGrade = "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strLetterGrade = "F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ulti-Way If Stat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(Logic Flow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1523880" y="1905120"/>
            <a:ext cx="3886200" cy="4208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ondition1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e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tatements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ElseIf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ondition2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e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lseifstatements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lsestatements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tatements following the 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57800" y="2133720"/>
            <a:ext cx="1371600" cy="1066680"/>
          </a:xfrm>
          <a:prstGeom prst="flowChartDecision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95880" y="3200400"/>
            <a:ext cx="78588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2514600"/>
            <a:ext cx="10666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ndition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580920" y="26668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3962520" y="4038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4572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343400" y="2362320"/>
            <a:ext cx="5716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14400" y="2666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266688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14400" y="5943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9144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914400" y="4876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3505320"/>
            <a:ext cx="1371600" cy="1066680"/>
          </a:xfrm>
          <a:prstGeom prst="flowChartDecision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410080" y="3886200"/>
            <a:ext cx="1067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ndition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94360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381560" y="3733920"/>
            <a:ext cx="571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885840" y="51055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48440" y="4648320"/>
            <a:ext cx="78588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sted If Stat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tatements can be nested inside each other as shown in the follow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1600200" y="3124080"/>
            <a:ext cx="4495680" cy="307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mintGrade &gt; 90 T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strLetterGrade = "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mintGrade &gt; 95 T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strNote = "Excellent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mintGrade &gt; 80 T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strLetterGrade = "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mintGrade &gt; 70 T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strLetterGrade = "C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mintGrade &gt; 60 T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strLetterGrade = "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strLetterGrade = "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 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elect Case Statement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form of If stat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Use the Select Case statement when multiple cases test against the same express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as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estexpres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as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xpressionlist-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tatement-blo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as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xpressionlist-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tatement-block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as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xpressionlist-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tatement-block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as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Select Case Statement (2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estexpres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evaluated once when the Select Case statement first st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estexpres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compared 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pressionlist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If the condition is true th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tement-block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ec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condition is not tru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pressionlist-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e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continues until no more conditions remain to be te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tements after the optional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se Else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only if no conditions match the test ex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Select Case Statement (Exampl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ign a letter grade based on a numeric gr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Case mintGra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se 90 To 1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strLetterGrade = "A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se 80 To 8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strLetterGrade = "B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se 70 To 7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strLetterGrade = "C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se 60 To 6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strLetterGrade = "D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se E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strLetterGrade = "F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 Sel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elect Case Statement (Variation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 Case statements can be written in different ways using other comparison opera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ase Is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comparisonoperato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Case Is &gt; 90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 Case may contain a comma separated list of valu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Case 1, 3, 4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 Case may contain a range of valu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Case 5 To 10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elect Case Statement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Select Case statement illustrates a comma separated list and a range of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lect Case mintTe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se 1, 3, 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 The value is 1, 3 or 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se 5 To 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 The value is 5, 6, 7, 8, 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 or 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d Sel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gical Operator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rpose is to perform conjunction (and) and disjunction (or) in an If stat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ing similar to meaning in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operators have 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rithmetic operators are evaluated firs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omparison operators are evaluated nex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ogical operators are evaluated last from left to right in the following ord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Not, And, Or, Xor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ants (Error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s cannot be declared using variables because a variable's value does not exist until ru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ollowing constant declaration is illegal because the declaration uses a variab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msngPI As Single = 3.1415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Const csng2PI As Single = msngPI * 2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gical Operators (Lis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Unary operator to perform n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Conjunction. Both conditions must be true for the expression to be tr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Disjunction. One or both conditions can be true fro the expression to be tr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One condition must be true for the expression to be true. If both conditions are true then the condition is fa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orting a Cla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 allows you to call the methods of a class without specifying the full namespace hierarc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statement imports the System.Convert namesp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s System.Conver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imported the System.Convert namespace, both of the following statements will work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datCurrent = System.Convert.ToDateTime(txtDate.Tex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datCurrent = ToDateTime(txtDate.Tex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orking with Da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ateTime data type stores date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teral date values are surrounded by pound signs (#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andard prefix for the DateTime data type is "dat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 to use IsDate to determine whether a value can be converted to a d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claration example</a:t>
            </a:r>
            <a:br>
              <a:rPr sz="2200"/>
            </a:br>
            <a:br>
              <a:rPr sz="9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mdatCurrent As DateTime = #3/22/2002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e conversion examp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datCurrent = _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System.Convert.ToDateTime(txtDate.Tex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ateTime Structure (Propertie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returns current date an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d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returns current 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n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returns day, month, and year,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ese properties store Integer valu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u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nu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returns tim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ese properties store Integer valu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ayOfWeek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ayOfYe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returns an Integer containing the day of the week and the day of the year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00:26:29Z</dcterms:created>
  <dc:creator>Michael V. Ekedahl</dc:creator>
  <dc:description/>
  <dc:language>en-US</dc:language>
  <cp:lastModifiedBy>New User</cp:lastModifiedBy>
  <dcterms:modified xsi:type="dcterms:W3CDTF">2002-05-20T22:54:58Z</dcterms:modified>
  <cp:revision>965</cp:revision>
  <dc:subject/>
  <dc:title>CHAPTER 1</dc:title>
</cp:coreProperties>
</file>