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EFB2-64DD-4F81-8BD8-7D975B897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7D96-FAEA-4625-B8BD-522B7DC79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F832-3D36-4601-AA75-28273FDD6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D53F-CE6F-4162-9E25-A6D1CBE6A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02E99-70DE-421E-9611-375FBFBD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33080-6F5E-4E01-A08D-A8138EBE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BE6BC-CE48-4D0A-A8D5-321714F3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9C544-7913-4E42-99E6-7C921783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C6BCF-C48E-45C7-8C72-DE6B483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610E5-B4D7-43EC-97DC-12984EAF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471B3-9044-4FC4-89E5-3619ABFA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E4FE-514C-4717-9A3D-0415F6259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5B521-5618-49DD-A826-A18598DE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2C267-DB2A-4399-A42A-9F6081C9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DDF63-0008-4D0D-84BA-C5AB3996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E2A51-9C2E-4818-B8F2-1B53B9E4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5A0FB-AA98-4551-BB30-92C2CE53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476E-D3F9-49C5-A541-1A15B1068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F54F-F358-465F-B222-82AAA971B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739F-8688-491C-B42B-4A43F698C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6B75-7C0A-4C4E-9B2D-278D0ADA3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4D23-8A4F-4D4D-9B68-334182006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EABC-A045-45CD-9A77-C93AC6D91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EA8A-9B5C-497D-85CE-DB7E08478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471B-F029-411F-BF48-4DD8245719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852DE988-8249-4153-9E8C-1BD39CD50C69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5540-05D5-4CF6-9A0C-66194DCB11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11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ing a Multiple-Document Applic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lacing Me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 child form menus can be configured to replace menus of the MDI parent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the MergeOrder property to the same value for both menus (on the MDI parent and MDI child form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the MergeType property to Replace for both men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 parent form menus can be removed when the MDI child form is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the MergeType property to Remove for the menu on the MDI parent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rging Menu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merge individual items on a me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menus should have the same value for the MergeOrder proper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menus should have a MergeType of Merge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dividual menu items are merged based on the setting of the MergeOrder and MergeType of the individual menu ite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rging Menu Items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831960" y="1906560"/>
            <a:ext cx="1839960" cy="173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DI par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97320" y="1906560"/>
            <a:ext cx="1830600" cy="173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DI chi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35360" y="2351160"/>
            <a:ext cx="1249200" cy="5936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geType set to Merge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030400" y="2624040"/>
            <a:ext cx="8049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266688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71920" y="3733920"/>
            <a:ext cx="1841400" cy="21556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ged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3352680"/>
            <a:ext cx="0" cy="1600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4952880"/>
            <a:ext cx="14713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648320"/>
            <a:ext cx="14713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3352680"/>
            <a:ext cx="0" cy="2210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962520" y="5562720"/>
            <a:ext cx="1295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943080" y="5248440"/>
            <a:ext cx="1314360" cy="9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2438280"/>
          <a:ext cx="1219320" cy="9097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648320" y="2438280"/>
          <a:ext cx="1218960" cy="91296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ve 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se 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048120" y="4191120"/>
          <a:ext cx="1218960" cy="151920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ve 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se 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sing Menus to Selec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DI Child For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the user interface by allowing the user to click a menu item to select from an active list of MDI child 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mply set the MdiList property of a menu item to Tru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menu item will display a sub menu containing a list of loaded MDI child for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ferencing an Object via the With Stat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hen multiple statements reference the sam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with a control instan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with user-defined types (structures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th statement is just a shorthand notation to save ty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t improves performance slightly too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tatement 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an be any object such as an OpenFileDialog control instan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ppearing in the With block appear with the object name omitt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mark the start and end of the With bloc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tatement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properties of the OpenFileDialog control instance named ofd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th ofd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Title = "Select a fil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FilterIndex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ShowDialog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tatement (Not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write an If statement that would branch out of a With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write a With block that would break up the decision-making parts of an If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statements can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ne With block containing another With bloc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sted With Statement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With statement using an instance of the FontDialog control named fdDe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th fdDe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ShowDialog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th .F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blnBold = .B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blnItalic = .Ita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rganizing Procedures in MDI Applications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procedures and data must be shared between the MDI parent forms and MDI child forms in an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MDI parent form needs to know which MDI child form i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r clicks a toolbar button on the parent form which must operate on an instance of the MDI child for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active MDI child form, you must call procedures residing in the MDI parent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the types of forms in an MDI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ge menus in an MDI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With statement to reference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e procedures in an MDI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sharing code between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role of standard forms in an MDI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MDI form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the uses of Windows Common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rganizing Procedures in MDI Applications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variables having a scope of Friend or Public so that both MDI parent and MDI child forms can reference the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variables are shared by all modules in an application and by other applic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rien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variables are shared by all the modules in an application but not outside the applic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s can also have a scope of Friend or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fMdiParent As frmMdiPa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gMdiParent As frmMdiPa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odules and Sha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copy of the data exists for variables declared in a standard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ndard module begins and ends with 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keywor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clare variables having a scope of Friend or Public to share data between MDI parent or MDI child for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itialize those variables in the MDI parent form's construct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a Control Instance Programmaticall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use the Toolbox to create a control instance for a standard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eed to create it programmatical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Just declare a vari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ithEvents keyword indicates that the variable should raise eve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WithEvents ofdMain As 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Windows.Forms.OpenFileDialo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dMain = New 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Windows.Forms.OpenFileDialo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neral Procedures in MDI Applic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either in the MDI parent form or a standard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a scope of Friend or Public so that the procedures can be shar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o not create shared general procedures in the MDI child form because an instance of the child form may not exist ye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Role of Standard Forms in MDI Applic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DI applications may contain any number of standard 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ypically standard forms in MDI applications do not have menu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ypically standard forms are displayed as modal dialog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isplay with the ShowDialog method just as you would with any other for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DI Form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fire as the user moves (changes focus) between MDI parent and MDI child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lso fire as MDI parent and child forms are opened and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hen the user activates an MDI child form, Windows fires 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event for the MDI child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Just before an MDI child form loses focus, 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eav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event fires for that child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indows fires 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losin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event for an MDI parent form and all child forms as the application end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ferencing the Active Child For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DI parent form stores a reference to the active MDI child form in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eMdiCh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fMdiParent references the MDI parent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et fMdiParent to reference the parent form in the parent form's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statement will close the active MDI child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MdiParent.ActiveMdiChild.Clos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indows Common Controls 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of controls shared by most Windows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oolbars contain buttons and drop-down menus that appear across the top of a form, just below the menu b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tatus bars appear at the bottom of the form to display status inform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state of keyboard key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ther status inform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e implementation of these controls has changed since VB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tusBar Control 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ograms support a status bar as a user interface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ypically a status bar appears at the bottom of a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status bar is divided into regions called panel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ach panel is implemented as a StatusBarPanel object in the StatusBarPanelColle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 panels using the StatusBarPanel Collection 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t is possible to create panels at run time by writing code too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is "sbr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n MDI application, the status bar typically appears on the MDI parent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tusBarPanel Collection Edito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FIG11-05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4476960" cy="4016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>
            <a:off x="2971800" y="4952880"/>
            <a:ext cx="9907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480060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Add to create a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Forms in an MDI Application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 parent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ypically one parent form per application but multiple MDI parent forms are possi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arent form is the container for MDI child form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hild forms appear within the region of the parent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 child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ne or more child forms exi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annot be displayed as a modal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reate multiple instances of a child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conified child forms appear in the region of the MDI parent form rather than on the taskb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ultiple MDI child forms can exi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tusBar Control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Properties and Event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nels property contains a reference to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usBar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owPan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the appearance of the status 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zingGr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whether a sizing grip will appear on the lower-right corner of the control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Cl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occurs when the user clicks a pa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reference to the panel is passed as an argument to the event handl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usBarPanel (Properties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ndard prefix is "pn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lign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 controls the alignment of text within a pan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uto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 controls how the panel will be resized as the user resizes the fo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prin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Panel resizes to fill reg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ntent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Panel resizes based on conte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on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Panel does not resiz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rderSty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rols the border surrounding a pan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on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No bor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unke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Typical configuration. Panel appears recess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aise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Avoid because the Panel looks like a butt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usBarPanel (Properties 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c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rols the icon, if any, that appears in the pan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notes the panel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in code to reference the pane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the text appearing in the pa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Wid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used when the AutoSize property is set to Spring or Con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pecifies the minimum width of the pane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identifies the width of the pa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ing a StatusBar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the date in the first panel of the Status 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e index is 0-bas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37339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brMain.Panels(0).Text =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DateTime.Today.ToShortDateStr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tus Bar Panels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Keyboard Key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termine the status of a keyboard key, you must create an event handler that determines which key was pres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KeyDown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event occurs when a key is press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KeyU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event occurs when a key is releas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oth events pass an argument having a data type of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KeyEventArg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Use this event to determine which keyboard key was presse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KeyEventArgs class (Properti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indicates that the Alt key was pr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indicates Ctrl key was pr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indicates that the Shift key was pr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y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gets the keyboard code of the key that was pressed or rele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fer to the Keys enumeration for a list of consta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yD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gets the KeyCode along with the state of the modifier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EventArg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whether the Insert key was pres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514600"/>
            <a:ext cx="6019920" cy="3744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ub frmMdiParent_KeyUp(ByVal sender As 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yVal e As System.Windows.Forms.KeyEventArgs)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s MyBase.Key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Case e.Key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Keys.Ins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Me.pnlInsert.Text = "OVR"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.pnlInsert.Text = "INSE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.pnlInsert.Text = "OV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Su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oduction to the ToolBa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oolbar buttons in addition to menus so as to enhance the user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ypically toolbar buttons have equivalent menu item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pplications support a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bars typically appear across the top of a form just below the title bar but can appear anywhere or float on the desk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oolbar fires a ButtonClick event for the ToolBar itself rather than a Click event for each but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prefix is "tbr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ToolBar Butt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sh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utton normally appears unpressed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t appears recessed (pressed) while the Click event handler is execut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ggleBut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orks like a toggle switc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ppears pressed or unpressed depending on the stat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old or not bold, for examp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opDownBut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is type of button displays a drop-down list of butt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the ImageList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List control is used to store graphical images used by other control 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Graphical images are typically bitmaps or ic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ther image types are supported howev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are stored in 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llection contains ImageList objec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ll images must be the same siz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ypically 16 x 16 pixels or 32 x 32 pixel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Forms in an MDI Applica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ame as forms used in other applicat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ypically displayed as a modal dialog box when used in an MDI applic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ndard forms in MDI applications typically do not have menu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e Collection Edi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Image Collection editor to add images at desig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FIG11-06" descr=""/>
          <p:cNvPicPr/>
          <p:nvPr/>
        </p:nvPicPr>
        <p:blipFill>
          <a:blip r:embed="rId1"/>
          <a:stretch/>
        </p:blipFill>
        <p:spPr>
          <a:xfrm>
            <a:off x="4419720" y="2971800"/>
            <a:ext cx="40957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ToolBar Control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Properties and Event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ear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whether the toolbar has a flat or 3-dimensional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rderSty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works with the Appearance property to define the surrounding b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tton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the size of each 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age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associates the ToolBar with an instance of the ImageLis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howToolTip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controls whether ToolTips appear or not as the mouse passes over individual butt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xtAlig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controls how text is aligned in a 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ttonCli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fires when the user clicks a toolbar 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Bar Butt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Bar has 0 or more butt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tons collection contains a reference to the buttons (ToolBarButtonCol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ach button represented as a ToolBarButton objec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tons can be created at design time or ru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reate buttons at design time using the ToolBarButton Collection Edit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oolBarButton Class (Properti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contains text appearing in the 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ageInde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stores the numeric index of an image stored in the associated ImageLis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indicates whether button is pressed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olTipT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stores the text appearing in a ToolT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notes whether the button is pushed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y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controls appearance of the button and how it interacts with the other toolbar butt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i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ab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ies determine whether button is visible and enabled respectiv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oolBarButton Collection Edito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FIG11-07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50101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ing the ToolB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Code for the ButtonClick event handler for the ToolBar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ed to determine which button was click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tbrMain.Buttons.IndexOf(e.Button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n MDI Parent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IsMdiContainer property to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 parent forms support the same properties as other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several changes exist between MDI programs in VB 6 and VB 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sMdiContainer property did not exist in VB 6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ctiveMdiChild property replaces the ActiveForm propert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ayoutMdi method replaces the Arrange metho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utoShowChildren property is no longer suppor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ackColor and Picture properties are no longer suppor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n MDI Child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 child forms are no different than any other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the MdiParent property of the child form to an instance of the MDI parent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following statements appear in the MDI parent form to configure a form as an MDI child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m frmCurrentChild As New frmMdiChi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mCurrentChild.MdiParent = 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mCurrentChild.Show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rging Menus in an MDI Application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DI parent form and MDI child form can have their own menu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s work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ne menu bar appears below the title bar of the MDI parent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menu bar displays menus for both MDI parent and child form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f both MDI parent and MDI child forms have a menu those menus will be merged together when an instance of the MDI child form is visi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enus are supported for standard forms but are seldom us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rging Menus in an MDI Application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rging menus involves working with two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MergeOrd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perty contains an Integer defining the relative order of the menu titles and menu ite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MergeTyp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perty controls how the menus and menu items are merged togeth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enus of MDI parent and MDI child forms can be merged, replaced, or delete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95280" y="1219320"/>
            <a:ext cx="3657600" cy="1600200"/>
          </a:xfrm>
          <a:prstGeom prst="rect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rging MDI Menus in an MDI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371600"/>
          <a:ext cx="1143000" cy="12175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895480" y="1371600"/>
          <a:ext cx="1371600" cy="5461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lp 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295280" y="3048120"/>
            <a:ext cx="6629400" cy="1600200"/>
          </a:xfrm>
          <a:prstGeom prst="rect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4876920"/>
            <a:ext cx="3657600" cy="1600200"/>
          </a:xfrm>
          <a:prstGeom prst="rect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00200" y="3200400"/>
          <a:ext cx="1143000" cy="12175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048120" y="3200400"/>
          <a:ext cx="1143000" cy="12175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mat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a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600200" y="5105520"/>
          <a:ext cx="1143000" cy="12175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mat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a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19720" y="3200400"/>
          <a:ext cx="1371600" cy="5461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nge 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019920" y="3200400"/>
          <a:ext cx="1371600" cy="5461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lp 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971800" y="5105520"/>
          <a:ext cx="1371600" cy="5461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nge 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 flipH="1">
            <a:off x="2057040" y="4800600"/>
            <a:ext cx="15238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133720" y="2590560"/>
            <a:ext cx="0" cy="6094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3733920"/>
            <a:ext cx="0" cy="10666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81680" y="2895120"/>
            <a:ext cx="0" cy="3049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581280" y="1904760"/>
            <a:ext cx="0" cy="99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81280" y="2895480"/>
            <a:ext cx="32004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057400" y="4800240"/>
            <a:ext cx="0" cy="30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4419720"/>
            <a:ext cx="0" cy="3808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86200" y="4800240"/>
            <a:ext cx="0" cy="30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85840" y="4800600"/>
            <a:ext cx="1143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16765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I parent form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88620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I parent form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7913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I child form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7-15T17:14:50Z</dcterms:modified>
  <cp:revision>906</cp:revision>
  <dc:subject/>
  <dc:title>CHAPTER 1</dc:title>
</cp:coreProperties>
</file>