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DE19-0FD5-43E8-B514-E5A1CD669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E4A2-60F8-4490-8963-072A307F8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1A9D-13BC-4457-A0E5-3842B5395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9046-16AE-4BFD-A1E9-8CF30BCD1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72A43-950C-43BE-A617-692CA0B0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93FE1-9CA1-435D-88E9-BCDB565D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5AC32-8E55-44DF-B611-DFA51710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AFA54-C406-4F7F-BD70-E7833B47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41636-91DF-466D-A12D-1CF9686F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88AE0-A483-4CA2-A9E8-64A6D760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7B78C-E0BC-4F45-ABBC-FBA043EC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369D-35B3-423C-BA41-E39FB651D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69A66-4521-41C6-98A6-65B5D7BF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1DC72-BF6B-4644-BF2E-B6B27594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BD201-C864-4B62-8662-37860EDD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4774B-A0AE-4715-BAF6-AE6D760F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2532F-A861-46DA-9ABF-C65EFC6A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335E-7908-49FE-8248-C44D9FEC1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4156-C1AD-4DAC-8459-868E9B056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51BD-A40E-4B07-A1F9-0E6F71A07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CB57-1693-4E75-9AB1-CDC65EEB1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7371-7836-4D25-A10B-F9F4C3541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E837-7675-4600-80E1-24843E75D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24A0-624D-4F24-845A-8C7175F4B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1395-066E-4066-BD86-D1A5A0A7F0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3018C5DA-0103-4CBD-BA1B-EA6B07A2A6C2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C759-CB28-40AF-B54C-F65D2DDDB2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3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roduction to Numeric Data Types and Variab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the Tab Order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t the tab order vis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ctivate the Win Form Design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n the menu bar, click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Tab Ord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he control instances in the order that you want them to get focu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Tab Ord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gain to record your chang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the Tab Order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505400" cy="3902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66680" y="3886200"/>
            <a:ext cx="2362320" cy="1447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 order of control instances appear in upper-left corner of control instance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352680" y="3429000"/>
            <a:ext cx="14479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52680" y="342900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plicitly Setting Inpu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c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the Focus method of a text box or other object that can get input foc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input focus to the text box named txtInitial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xtInitialValue.Focus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olT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lTips appear as a pop-up when the mouse hovers over a control instance for a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prefix is "tip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itialDel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fines the time interval for mouse to hover before the ToolTip app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icDel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defines the amount of time that the ToolTip app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reating the ToolTip, set the ToolTip 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ro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y for each control in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the control instance appears in resizable tray below the form because it is not visible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olTips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5790960" cy="3827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5334120"/>
            <a:ext cx="23623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Tip control 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590920" y="5410080"/>
            <a:ext cx="7617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4572000"/>
            <a:ext cx="236232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Tip on TipGeneral Prope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590920" y="5029200"/>
            <a:ext cx="44193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oring Data in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stores data while a solution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variable is simply a unique name that identifies a space in memory (RAM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ata may be a string of characters or a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very variable has a data typ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's data type determines the kind of information that the variable can stor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bers, characte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very variable has a na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standard prefixes for variable names to denote data typ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ed VB .NE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Typ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14400" y="1905120"/>
          <a:ext cx="8001000" cy="3989160"/>
        </p:xfrm>
        <a:graphic>
          <a:graphicData uri="http://schemas.openxmlformats.org/drawingml/2006/table">
            <a:tbl>
              <a:tblPr/>
              <a:tblGrid>
                <a:gridCol w="1547640"/>
                <a:gridCol w="1808280"/>
                <a:gridCol w="946080"/>
                <a:gridCol w="369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ag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sible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o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 or 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es between 1/1/0001 and 12/31/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itive and negative whole numbers between –32768 and 32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itive and negative whole numbers between –2,147,483,648 and 2,147,483,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itive and negative whole nu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ed VB .NE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Typ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14400" y="1905120"/>
          <a:ext cx="8001000" cy="2709720"/>
        </p:xfrm>
        <a:graphic>
          <a:graphicData uri="http://schemas.openxmlformats.org/drawingml/2006/table">
            <a:tbl>
              <a:tblPr/>
              <a:tblGrid>
                <a:gridCol w="1547640"/>
                <a:gridCol w="1808280"/>
                <a:gridCol w="946080"/>
                <a:gridCol w="369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ag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sible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number with at most 6 digits to the right of the decimal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b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number with at most 14 digits to the right of the decimal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byte per charac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 string of up to about 2 billion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s fo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Nam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 one-character prefix to denote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scope of a variable indicates which event handlers can use that variab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 three-character prefix to denote 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dd an additional prefix character to denote a variable's scop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ule-level variables carry a prefix of "m"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s fo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Nam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981080"/>
          <a:ext cx="8001000" cy="3790800"/>
        </p:xfrm>
        <a:graphic>
          <a:graphicData uri="http://schemas.openxmlformats.org/drawingml/2006/table">
            <a:tbl>
              <a:tblPr/>
              <a:tblGrid>
                <a:gridCol w="2667240"/>
                <a:gridCol w="2743200"/>
                <a:gridCol w="2590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id Variable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comes and Invalid Variable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n the Following is Ad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lngCou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lng.Cou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period (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t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t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dblFuture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dlbFuture-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dash (-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dblG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dbl*G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ial charac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 text box for input and output and define an accept and cancel button for a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the order in which the user navigates from one control instance to another by pressing the Tab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ly set input focus and create ToolTips for control in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variables to store information while a solution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organization of namesp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ing a Variabl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statement declares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rnam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itexp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varnam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s variable na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 type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tains data type of varia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ptional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 initexpr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tains the initial value of a variab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eclare variables having the Double and Integer data typ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dblInterestRate As Dou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intCounter As Int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ing a Variabl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ize a variable when declaring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ew to VB .NE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an Integer variable and store the value 30 in the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rivate mintYearTerm As Integer = 30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ing a Variabl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include punctuation characters in a variable decl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following declarations are illegal because of the $ sign and comma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mdblInitialValue As Double = 100,000.5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mdblInitialValue As Double = $100,000.5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to declare multiple variables on the sam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mintYearTerm, mintMonthTerm As Integ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ing Module-Level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75080" y="2057400"/>
            <a:ext cx="6568920" cy="3720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280" y="3733920"/>
            <a:ext cx="2362320" cy="12189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lare module-level variables after the statements generated by the Win Form Designer but outside an event ha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514240" y="4267080"/>
            <a:ext cx="6858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Organization of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amespaces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 .NET accesses predefined components via namesp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amespaces developed by .NET team begin with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amespaces developed by others at Microsoft being with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Microsof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spaces are organized hierarch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Organization of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amespaces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848040" y="2298600"/>
            <a:ext cx="15620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3352680"/>
            <a:ext cx="17780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Dra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17920" y="3352680"/>
            <a:ext cx="22096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.Forms 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Windows.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3352680"/>
            <a:ext cx="17780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4432320"/>
            <a:ext cx="25146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ing 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Drawing.Pri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2755800"/>
            <a:ext cx="2209680" cy="59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755800"/>
            <a:ext cx="0" cy="59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374560" y="2755800"/>
            <a:ext cx="2273400" cy="59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4920" y="3809880"/>
            <a:ext cx="46980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ing Namesp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t syntax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nect namespac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 period separates each namespace nam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Drawing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Windows.Form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Dat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s of a Namespac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amespace contai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numerations which define a symbolic name for a valu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asses which are reference typ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ructures which are value typ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s of a Namespac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2362320"/>
            <a:ext cx="224784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.Forms  namespac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Windows.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34960" y="3492360"/>
            <a:ext cx="17780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3492360"/>
            <a:ext cx="166392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3492360"/>
            <a:ext cx="19940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um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79560" y="5029200"/>
            <a:ext cx="1333440" cy="25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xt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59400" y="2895480"/>
            <a:ext cx="2209680" cy="59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59400" y="2895480"/>
            <a:ext cx="0" cy="59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285640" y="2895480"/>
            <a:ext cx="2273400" cy="59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74640" y="3797280"/>
            <a:ext cx="0" cy="13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79560" y="4114800"/>
            <a:ext cx="1333440" cy="25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79560" y="4584600"/>
            <a:ext cx="1333440" cy="25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74640" y="4229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74640" y="4699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74640" y="5194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18040" y="4229280"/>
            <a:ext cx="1714680" cy="25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rder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4229280"/>
            <a:ext cx="1333800" cy="25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37972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4368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03920" y="3797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03920" y="43689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18040" y="4775040"/>
            <a:ext cx="1714680" cy="25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mBorder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03920" y="49402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‘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orts’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want to use objects without having to fully qualify them each time, use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s System.Winforms allows the declaration: Dim x as Button, rather than the  lengthy Dim x as System.Winforms.But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do not create an explicit namespace then all classes and modules belong to a default namespace – the projec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create com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events that occur as a user navigates between text bo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computations with variables using assignment 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role of precedence, perform type conversions, and forma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tatement on multiple lines and calculate solutio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espace Enum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umerations define a symbolic name for a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umerations improve code read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orderStyle enumeration applies to the System.Windows.Forms nam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blFileName.BorderStyle = _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ystem.Windows.Forms.BorderStyle.FixedSing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espace Cla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referenc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riable stores the memory address of an object rather than the object itself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ntrols appearing in the Toolbox are all class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3886200"/>
            <a:ext cx="1778040" cy="723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btnCalc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34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4216320"/>
            <a:ext cx="17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4952880"/>
            <a:ext cx="2260440" cy="1130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tnCalcul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mory address 0234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ion = "Calculat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4381560"/>
            <a:ext cx="135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3886200"/>
            <a:ext cx="2260440" cy="723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contains memory address of Button control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espace Structur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s are val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data directly in the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imary data types such as Boolean Integer, Single, and Double are all structur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 that the String data type is a class though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espace Structur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624852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91520" y="2514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16800" y="3035160"/>
            <a:ext cx="1625400" cy="571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cate memory for th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32320" y="4610160"/>
            <a:ext cx="1778040" cy="723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mcol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32320" y="4940280"/>
            <a:ext cx="17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210000" y="4787640"/>
            <a:ext cx="118116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3526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08440" y="3365640"/>
            <a:ext cx="0" cy="177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08440" y="5143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68480" y="3759120"/>
            <a:ext cx="1866960" cy="571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the value Navy directly in th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2771640"/>
            <a:ext cx="792468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colCurrent = System.Drawing.Color.Nav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2286000"/>
            <a:ext cx="557532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colCurrent As System.Drawing.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973240"/>
            <a:ext cx="9144000" cy="459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 Browser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Object Browser to identify the properties and methods supported by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 Browser does not create code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it as a roadmap to the namespaces, classes, structures, and enumerations defined by VB 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 Browser (2)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523880" y="1179360"/>
            <a:ext cx="678204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ng Well-Written Comments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ent is a full or partial line of text ignored by VB 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comments to describe what your code is doing or how code performs a particular t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comments are called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ent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nk lines between statements are ignored and are call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it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ent can appear on its own line and begins with a single quote ( '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ent can appear at the end of a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ng Well-Written Comments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is a comment appearing on its own li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' This line is a comment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mment appears at the end of a line. Note a space must precede the comment 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xtDemo.text = "Dog" ' Store "Dog" in the text b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5181480"/>
            <a:ext cx="236196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5029200"/>
            <a:ext cx="0" cy="3808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95680" y="5029200"/>
            <a:ext cx="39625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5410080"/>
            <a:ext cx="2438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Well-Written Comment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5238720" cy="3838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33520" y="3048120"/>
            <a:ext cx="21333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B .NET displays comments in in g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66880" y="3200400"/>
            <a:ext cx="9907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52480" y="4419720"/>
            <a:ext cx="19814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752480" y="3657240"/>
            <a:ext cx="0" cy="7621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riting Assignment Statements Using Variab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 property in a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mintResult = txtExample.Heigh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 literal value in a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mintResult = 3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other variable in a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mintResult = mintExamp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Text Box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isplay output to the user and get text input from the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to a Label control but a Label control only displays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prefix for a text box is "txt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nters text into one text box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s text box is said to hav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focu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focu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29400" y="1066680"/>
            <a:ext cx="55260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ithmetic Operator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pressions consists of literal values, constants, variables and arithmetic operat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 arithmetic operator performs a mathematical calcul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ultiply the literal values 3 and 2 together and store the result (6) in the variable mintResul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ntResult = 3 *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ithmetic Operators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838080" y="1905120"/>
          <a:ext cx="7772400" cy="4029120"/>
        </p:xfrm>
        <a:graphic>
          <a:graphicData uri="http://schemas.openxmlformats.org/drawingml/2006/table">
            <a:tbl>
              <a:tblPr/>
              <a:tblGrid>
                <a:gridCol w="1905120"/>
                <a:gridCol w="3276720"/>
                <a:gridCol w="25905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s in Order of Preced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ses a number to the power of an ex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^ 3 is equal to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, 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cation and Di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* 3 is equal to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/ 4 is equal t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 Di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\ 3 is equal t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\ 2 is equal t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ulus arithm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Mod 3 is equal t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,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ition and subt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+ 3 is equal to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ithmetic Operators – Exampl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vide two numbers and multiply the intermediate result by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mdblNumerator As Double =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mdblDenominator As Double =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mdblResult As Dou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dblResult = mdblNumerator / mdblDenominator * 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Role of Precedence in Express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languages evaluate arithmetic expressions from left to right in a predefined order known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erform exponentiation firs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ext perform multiplication and divis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ext perform Integer division and then apply the Mod operat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ext perform addition and subtrac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arenthesis override default preceden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Parenthesis may be neste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edence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438280"/>
            <a:ext cx="6705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ar1 + Var2) / (Var3 + Var4) * (Var5 ^ Var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2971800"/>
            <a:ext cx="16002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14800" y="2971800"/>
            <a:ext cx="16002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2971800"/>
            <a:ext cx="16002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65880" y="2971800"/>
            <a:ext cx="18039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(ad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99600" y="2971800"/>
            <a:ext cx="18039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(ad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98840" y="2971800"/>
            <a:ext cx="19821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(ex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505320"/>
            <a:ext cx="373392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75400" y="3581280"/>
            <a:ext cx="17168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(div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4267080"/>
            <a:ext cx="601992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11880" y="4267080"/>
            <a:ext cx="25840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(multi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Conv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 .NET must convert data from one data type to another when evaluating mathematical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Option Strict 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atement enables strict type che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rict type checking requires explicit type conversion from less restrictive types to more restrictive typ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strict type checking to minimize hard to find errors resulting from implicit type convers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ct Type Checking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statement will cause an error if strict type checking is enabled. If disabled, mintPI will store the value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 that the result if the implicit type conversion is trunc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mintPI As Integer = 3.1415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on Explic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tion Explicit 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atement requires that you declare variables before using them the firs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reduces hard to find errors resulting from ty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 that Option Explicit and Option Strict statements appear at the beginning of a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Conversion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belong to the System.Conver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oInt16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verts value to a Shor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oInt32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verts value to an Integ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oInt64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verts value to a Lo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oDoubl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verts value to a Dou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oSingl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verts value to a Sing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oStrin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verts value to a Stri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ethod takes one argument; the value to conv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these methods supercede older intrinsic functions like CInt and CL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Conversion 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ngInput As Single = 3.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trInput As String = "3.95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intOutput As Int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ngOutput As Sing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t a Single to 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tOutput = System.Convert.ToInt32(msngInpu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t a String to 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tOutput = System.Convert.ToInt32(mstrInpu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t a String to a Sing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ngOutput = System.Convert.ToSingle(mstrInpu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TextBox Control –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perties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derSty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defines the border surrounding the text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eColor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defines the text color and background color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abl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rols whether the text box can get focus and will respond to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rols whether user can change the text appearing in the text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lti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rols whether text will appear on multiple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x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defines the maximum number of characters that the user can enter into the text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eric Overflow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mer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fl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ccurs when trying to store too large a number in a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statements will cause a numeric overflow error because the largest number that can be stored in a short is 3276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hoExample As Sh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hoExample = 46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hoExample = 2500 * 2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eric Overflow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 .NET performs arithmetic using less restrictive type on right side of 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st statement will cause numeric overflow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shoArg1 As Short, mshoArg2 As Sh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intArg3 As Int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hoArg1 = 3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hoArg2 = 3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tArg3 = mshoArg1 * mshoArg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rmatting a Numeric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alue with Method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oString type conversion method accepts a string argument to forma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haracters are used to define th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blGain.Text = mdblGain.ToString("$##,###.##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4267080"/>
            <a:ext cx="2438280" cy="4597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4038480"/>
            <a:ext cx="121932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4038480"/>
            <a:ext cx="121932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4038480"/>
            <a:ext cx="175248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4940280"/>
            <a:ext cx="2971800" cy="4597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Str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5626080"/>
            <a:ext cx="6019560" cy="82548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gume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how to format th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4495680"/>
            <a:ext cx="53352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648320" y="4038480"/>
            <a:ext cx="0" cy="45720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12189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867280" y="4038120"/>
            <a:ext cx="0" cy="114300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467480" y="4038120"/>
            <a:ext cx="0" cy="160020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ting Placehol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143000" y="1828800"/>
          <a:ext cx="7772400" cy="4452840"/>
        </p:xfrm>
        <a:graphic>
          <a:graphicData uri="http://schemas.openxmlformats.org/drawingml/2006/table">
            <a:tbl>
              <a:tblPr/>
              <a:tblGrid>
                <a:gridCol w="1484280"/>
                <a:gridCol w="6288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git placeholder. If number corresponding to position does not contain a value, then a 0 app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git placeholder. If number corresponding to position does not contain a value, then a space app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cimal placeholder. Defines the position of the decimal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ousands sepa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centage placeho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+ $ (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teral characters embedded in the format 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ting 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182600" y="2017800"/>
          <a:ext cx="7772400" cy="3773520"/>
        </p:xfrm>
        <a:graphic>
          <a:graphicData uri="http://schemas.openxmlformats.org/drawingml/2006/table">
            <a:tbl>
              <a:tblPr/>
              <a:tblGrid>
                <a:gridCol w="2932200"/>
                <a:gridCol w="2249640"/>
                <a:gridCol w="259056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mat String (Mas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matted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3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123.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##,###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3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34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###,###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3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1,234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##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#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3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1234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3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34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ation L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hen statement will not fit on a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core (_) is the continuation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les f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pace must precede continuation the charact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mment following continuation character is not allow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o not break up word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ultiple continuation lines allow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ation Lines (Examp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statement appears on two lin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dblInterestRate = 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Convert.ToDouble(txtInterestRate.Text) / 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ntrinsic FV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the future value of a fixed amount of money based on a constant interes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sult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ate, periods, payme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sent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Rat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s interest rat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Periods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s number of time period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gular payments, if made stored in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payme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ue at start of term stored in 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present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dicates when payments are mad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V Function -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the future value of $1000.00 for 12 periods at a rate of 1% per peri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dblFutureValue = FV(.01, 12, 0, 1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ystem.Math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s common mathematical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methods – Do not create an instance of the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Ab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method calculates absolute valu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qr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method calculates square root of a numb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in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o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Tan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ompute sine, cosine and tangent of a numb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any others exis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TextBox Control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perties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defines name used to reference control instance with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gain, use a standard prefix of "txt"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ollB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defines whether vertical or horizontal scroll bars appear in text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ains the text appearing in text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Al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justifies text within the visible region of the control in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 define the position and size of the control in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TextBox Control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s and Ev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c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sets input focus to a text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ent fires when text box gets foc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a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ent fires when text box loses foc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Chang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ent fires when the changes the textual contents at ru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event fires for each character typ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AcceptButton and CancelButton Proper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button on a form can be designated as the accept button and another the cancel but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t the form’s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cceptButt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to a Button control instance to define the accept butt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lick event handler executes when user presses the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ke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t the form’s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ancelButt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operty to Button control instance to define the cancel butt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lick event handler executes when user presses the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Esc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ke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the Tab Order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 in which control instances get focus is called the tab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abIndex property defines tab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t the TabIndex property to a unique Integer value for each control instance that can get focu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Joel Carissimo</cp:lastModifiedBy>
  <dcterms:modified xsi:type="dcterms:W3CDTF">2003-07-12T18:58:43Z</dcterms:modified>
  <cp:revision>924</cp:revision>
  <dc:subject/>
  <dc:title>CHAPTER 1</dc:title>
</cp:coreProperties>
</file>