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2FBB-C226-4F47-9306-530430F91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17AF-C933-456E-BA4E-3163F6016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8594-978C-48CA-A1B3-3D66B147A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1C84-7DC8-4C66-B5EF-83A737D54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68A5F-3656-4918-BC20-09F9DEEA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50C44-767A-41AD-8987-4B43CC2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B958-1CEF-4A83-BD1F-834592E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0702F-67DB-409F-BB66-30AB4030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B1618-895E-4C0A-836C-9DADD271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FA25F-7806-4CB4-85A9-472D34D2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D5D2-E1B9-41C9-A710-0D451F8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1217-9B74-45FA-9C54-1381DA180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91724-EF07-45F4-A30F-BFBB0A0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335DA-1289-464F-99D1-2C96A93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1F48-73EE-4FED-84A4-0BE1104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9C6D6-8AE1-4E00-A412-687301B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C8691-1220-4113-AAC3-CB7737EB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9226-D975-4299-8B64-9AB981507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A136-1A1B-4365-94E2-E16CD2A70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394A-C647-42FF-BFDE-C7B2D9834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CCBF-3B47-43D6-AF2A-53D47EDCC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32A9-8C09-4400-8137-D5E452F01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D53A-3413-4C9F-BB33-A58404EE4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3787-0E3B-42DB-8B93-A41B4B4D2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F1D-B53A-4AD6-89E9-304B35967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770DEB44-1351-4386-A3FD-FCA94CDB111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30C-9BF3-4E12-BBD3-DDCC48B1A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6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etition and Multiple Form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ecuting Statement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peatedly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evaluat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executing the statements in the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dition evaluates to a Boolean val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ntax is the same as the condition in an If statem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causes statements to execute while a condition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causes statements to execute until a condition become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marks the end of the Do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While Loop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the numbers from 1 to 10 to the Output wind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im pintCounter As Integ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 While pintCounter &lt;= 1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ebug.WriteLine(pintCounter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intCounter = pintCounter + 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58080" y="3295800"/>
            <a:ext cx="1457280" cy="156204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While Loop (Analysi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5553000" y="3733920"/>
            <a:ext cx="771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24800" y="4952880"/>
            <a:ext cx="819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58080" y="3638520"/>
            <a:ext cx="1457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ntCounter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81080"/>
            <a:ext cx="12762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e loop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733920"/>
            <a:ext cx="3276720" cy="77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2476440"/>
            <a:ext cx="0" cy="819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62720" y="40766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228480" y="5353200"/>
            <a:ext cx="355284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6720" y="4857840"/>
            <a:ext cx="0" cy="495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0" y="450540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00160" y="4762440"/>
            <a:ext cx="1952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00160" y="2962440"/>
            <a:ext cx="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00160" y="2962440"/>
            <a:ext cx="4781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809800"/>
            <a:ext cx="220032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ondition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191200"/>
            <a:ext cx="113364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220968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181480"/>
            <a:ext cx="14475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41840" y="2035080"/>
            <a:ext cx="3381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Counter As Intege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3720" y="3254400"/>
            <a:ext cx="2847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 Until pintCounter &gt;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809880"/>
            <a:ext cx="3505320" cy="631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bug.WriteLine(pintCoun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Counter = pintCounter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000" y="48546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Until Loop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the numbers from 1 to 10 to the Output windo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intCounter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 Until pintCounter &gt;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bug.WriteLine(pintCoun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tCounter = pintCounter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0" y="243828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Until Loop (Analysi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124080"/>
            <a:ext cx="1828800" cy="1828800"/>
          </a:xfrm>
          <a:prstGeom prst="diamond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53000" y="3733920"/>
            <a:ext cx="771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3400" y="4952880"/>
            <a:ext cx="819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505320"/>
            <a:ext cx="1752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ntCounter &lt;=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1981080"/>
            <a:ext cx="12762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e loop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733920"/>
            <a:ext cx="3276720" cy="77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627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743200" y="5334120"/>
            <a:ext cx="4114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95288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0" y="4505400"/>
            <a:ext cx="0" cy="257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000160" y="4762440"/>
            <a:ext cx="1952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00160" y="2962440"/>
            <a:ext cx="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00160" y="2962440"/>
            <a:ext cx="4857840" cy="9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2809800"/>
            <a:ext cx="220032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ondition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5191200"/>
            <a:ext cx="113364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209680"/>
            <a:ext cx="838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5181480"/>
            <a:ext cx="14475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41840" y="2035080"/>
            <a:ext cx="3381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Counter As Intege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0" y="3254400"/>
            <a:ext cx="29545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 While pintCounter &lt;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09880"/>
            <a:ext cx="3505320" cy="631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bug.WriteLine(pintCoun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Counter = pintCounter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06000" y="48546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 Loop While and Do Loop Unt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oop While and Do Loop Until statements test condition after executing the statements in the loop instead of bef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statements will always execute at least o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Un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 Loop Whil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 Loop Until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the numbers 1 to 10 to the Output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intCounter As Integer 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bug.WriteLine(pintCoun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tCount = pintCounter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 While Counter &lt;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943600" y="3124080"/>
            <a:ext cx="182880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Loop While (Analysi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4276800"/>
            <a:ext cx="1828800" cy="182880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48440" y="4886280"/>
            <a:ext cx="771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791320"/>
            <a:ext cx="819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4657680"/>
            <a:ext cx="1752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ntCounter &lt;=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981080"/>
            <a:ext cx="12762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e loop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895480"/>
            <a:ext cx="32763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2514600"/>
            <a:ext cx="0" cy="6094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571640" y="518148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66520" y="6095880"/>
            <a:ext cx="3886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365760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200040" y="4038480"/>
            <a:ext cx="3352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66680" y="3123720"/>
            <a:ext cx="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03848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11480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tatements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867280"/>
            <a:ext cx="1133640" cy="3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2209680"/>
            <a:ext cx="1523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672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2400" y="2057400"/>
            <a:ext cx="3381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Counter As Intege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6720" y="251460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971800"/>
            <a:ext cx="3504960" cy="631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bug.WriteLine(pintCoun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Counter = pintCounter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69080" y="5029200"/>
            <a:ext cx="3167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 While pintCounter &lt;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952880" y="327672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ters and Accumul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unter is a variable, used in a loop, whose value is increased by 1 each time through the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counter has the following general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unter = Counter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ccumulator is a variable, used in a loop whose value is incremented so as to calculate a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 accumulator has the following general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cumulator = Accumulator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rthand Notation for Counters and Accumulato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=, -=, *=, /= are shorthand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s are 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both illustrate the use of a counte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tCounter = pintCounter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tCounter +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a second form to a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solution's startup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object programma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Do and For loops to execute statements repeated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nd paint shapes on a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Tim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lay, close, and hide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a re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PrintPreviewDialog and PrintDocument controls to print a report preview to the sc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ringForma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inite Loo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s that never exit are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finite loops happen when a condition does not ever occur that causes the loop to ex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lick the Break button on the Debug toolbar to suspend execu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loop prints the value 1 to the Output window fore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intCounter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Until pintCounter &gt;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.WriteLine pint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a Do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s statements repeatedly using a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hen you know in advance how many times the loop will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s faster than a comparable Do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For loop can be written as a Do Loop but not the other way a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Loop Syntax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op executes statements between For and Next a fixed number of ti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unt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crem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Stat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unt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Loop Syntax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et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the loop is initi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 in loop execute until counter becomes greater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VB .NET automatically sets the value of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cremented by 1 by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increment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lause to increment or decrement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counter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y a different val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x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causes the For loop to exi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he value of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count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preserv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400800" y="3191040"/>
            <a:ext cx="1905120" cy="1914480"/>
          </a:xfrm>
          <a:prstGeom prst="diamond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Loop (Analysi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3809880"/>
            <a:ext cx="60984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5486400"/>
            <a:ext cx="6094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7120" y="3505320"/>
            <a:ext cx="175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ntCounter &lt;=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25909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333760" y="411480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191120" y="2971800"/>
            <a:ext cx="3124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15200" y="5105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81080" y="3047760"/>
            <a:ext cx="0" cy="1066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90560" y="5410080"/>
            <a:ext cx="4724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105520"/>
            <a:ext cx="24195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loop w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819520"/>
            <a:ext cx="3733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pintCounter = 1 To 1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962520"/>
            <a:ext cx="32004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bug.WriteLine pintCou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80720" y="41148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800600"/>
            <a:ext cx="37339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 pint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276720"/>
            <a:ext cx="424836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B.NET increments pintCounter and tests condition agai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not specified so increment b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38840" y="2124000"/>
            <a:ext cx="227664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B.NET initializes pintCounter to 1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Loop (Example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the numbers 1 through 10 to the Output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intCounter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pintCounter = 1 To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bug.WriteLine pint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 pint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Loop (Example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the values from 2000 to 1900 to the Output window decrementing the value by 5 each ti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intYear As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pintYear = 2000 To 1900 Step -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bug.Writeline(pintYe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 pint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Dra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Device Interface (GDI) provides standardized classes and methods to draw shapes to a graphical output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utput device can be a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utput device can be a prin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.Draw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amespace contains classes to define sha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 provides methods to draw to an output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ystem.Drawing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o define graph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ectang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ructure defines the size and position of a rectang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olidBrush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lass defines a brush made up of a single col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lass is used to draw lines and outline a rectang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lass defines typeface, size, and other attributes for t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s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draw shapes and text to a graphical output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rawLin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draws a line between two points using a Pe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rawRectang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draws an outline of a rectangle using a Pe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illRectang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draws a filled rectangle using a brus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rawString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draws a string of characters using a font, a color, and a brus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Form to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applications are made up of multiple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dd a new form,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the type of item to add from the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dd an existing form,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the type of item to add from the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s to Create and Draw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Rectang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Rect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3480" indent="-47628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Size and Point structures or define the x and y coordinat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Pen class to define the color and width of the border surrounding the rect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DrawRectangle method of the Graphics class to draw the rectangle out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348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t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structure defines starting point or ending point of a line, or the upper-left corner of a recta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pnt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rguments define the point's coordinat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pper-left corner of device is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0, 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t Structur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 creates a new point at the upper-left corner of the output devic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ntCurrent As New Point(0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ize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size of a Rect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siz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rguments define horizontal and vertical dist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Values are measured in poi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ize Structur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ize 1 inch squ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sizCurrent As New Size(72, 7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tangle Constru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oaded constructor creates a recta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for a rectangle is "rec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yntax variation uses existing Point and Size structures. The other use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rdinat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location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oi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width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height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ger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ctangle Constructor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Rectangle with existing Point and Size struct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ntCurrent As New Point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sizCurrent As New Size(72, 7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recCurrent As New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(pntCurrent, sizCurrent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Rectangle without Point and Size structur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recCurrent As Rect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Current = New Rectangle(0, 0, 72, 7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Co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monitors display colors by combining varying intensities of red, green, and blue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term RGB (red, green blue) describes these col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alpha value defines the brightness of a col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GB values range from 0 to 255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0 means that color is turned of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255 means that color is applied at its full intensit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ongs to the System.Drawing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ral named colors are suppor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lue, Red, Yellow, etc…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reate new colors using the FromArgb metho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, G, B properties contain an RGB valu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col" is the standard prefix for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colCurrent As Color = Color.B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colCurrent As Color = Color.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o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Arg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creates a new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omArgb is a static method so do not use New keywor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Arg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, gree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guments contain RGB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5000760" cy="369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3124080" y="2743200"/>
            <a:ext cx="6098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Form to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438280"/>
            <a:ext cx="2362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Project Items folder expa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200040" y="3276720"/>
            <a:ext cx="3352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2362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Windows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97180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257800"/>
            <a:ext cx="2362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form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400" y="5562720"/>
            <a:ext cx="1295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533412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Argb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new color (whit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colCurrent As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Current = Color.FromArgb(255, 255, 255, 2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us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ll rectan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for a SolidBrush is "sb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dBrush constructor creates a brush having a solid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l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gument contains an existing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named color or a color created from FromArgb metho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ush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olid brush using a new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colCurrent As Color =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FromArgb(255,255,2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sbCurrent = New SolidBrush(colCurrent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olid brush using a named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sbCurrent = New SolidBrush(Color.R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ling a Rectang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l a rectangle by calling the overloaded FillRectangle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o syntax vari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first uses an existing Rectangle structur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 the second, you define the size and shape of the rectang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l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ll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dt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heigh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llRectangle Method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the variable "e" references an instance of the Graphics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would appear in the form's Paint event handl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colCurrent As Color =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lor.FromArgb(255, 255, 2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sbCurrent =  New SolidBrush(colCurr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Graphics.FillRectangle(sbCurrent, 0, 0, 72, 7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P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pens to draw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for a pen is "pen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color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 named color or created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thickness of the li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nit of measure is poi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Pen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blue pen 3 points in wid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enCurrent As New Pen(Color.Blue,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awing an Outlined Rectang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the DrawRectangle method of the Graphics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ethod uses an existing Rectangle structure and the second uses rectangle coordinates an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eigh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awRectangle Method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outlined rectangle the size of the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ssume that graCurrent references an instance of the Graphics cla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enCurrent As New Pen(Color.Blue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recCurrent As Rect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Current = New Rectangle(0, 0,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.Width – 3, Me.Height –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Current.DrawRectangle(penCurrent, recCurr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wLine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s a line using a 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isting Point structures or specify x,y coordina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i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2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ng the Startup Object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olution has one startup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up object can be a form or a sub procedure named Mai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startup object using the Project's General Property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-click the project in the Solution Explorer, and then select Property Pages to activate the Property Pa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wLine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 a line using x,y coordinate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 references an instance of the Graphics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penLine As New Pen(Color.Red,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.Graphics.DrawLine(penLine, 0, 0, _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100, 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wing Tex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font using the Font constru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nt constructor creates a Font object using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ont name or famil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ont siz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ont sty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 a string using an existing Font and brush by calling the DrawString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nt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for the Font class is "fnt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ol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tal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rikeou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Underli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ies define whether a particular font attribute is applied or no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gets font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izeInPoint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gets the font siz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is measured in poi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etHeigh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gets font height using current graphics cont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nt Constru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mSiz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mSiz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nt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Famil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gument contains font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emSiz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ains font size in poi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Style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fines attributes applied to the font (Bold, Italic, Underline, etc.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nt Constructor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14 point, bold, Arial fo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m fntSplash As New Font("Arial", 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, FontStyle.Bol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wString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s text to a graphics device using an existing f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rus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rus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u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Form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wString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 a string using the previously created font named fntSplash, and a green bru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per-left corner is 5, 2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graCurrent references an instance of the Graphics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Current.DrawString( _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Copyright 2003 – Course Technology", _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ntSplash, Brushes.Green, 5, 26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im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s a Tick event at regular intervals based on the setting of the Interval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rol is not visible at run time so the control instance appears in resizable tray at the bottom of the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olean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nabl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controls whether Tick event fir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erv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controls number of milliseconds between Tick ev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ick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vent fires each Interva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playing, Closing,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d Hiding For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to display a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to display a form as a modal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to hide a form but leave the form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to close the form and remove it from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Report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as designing forms is important so too is report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ports should have a title that is centered on the pag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lumn headers and columns should be align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ecimal points should be aligned in colum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venly space colum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ng the Startup Object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2743200"/>
            <a:ext cx="23619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tab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95480" y="28954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480" y="380988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657600"/>
            <a:ext cx="23619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up object is Sub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42900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leted Report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796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rintPreviewDialo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rol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report image on the desktop which can be sent to the pr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pp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tons allow zooming and navigation from one page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drawing methods that you used to draw graphics to a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rintPreviewDialo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rol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appears in the title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ocu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defines the document to preview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property to instance of the PrintDocument contro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defines the upper-left corner of the visible reg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inimize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aximize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ies control the buttons that appear on the title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p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ies define the position and size of the control inst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method displays the dialog box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intDocument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in conjunction with the PrintPreviewDialog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p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the reference to the Graphic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milar to the way the Paint event supplies a reference to the Graphics cla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rintDocument Control (Properties and Method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nterSetting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contains a reference to a PrinterSettings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Object contains information about the print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eginPrin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fires before first page is prin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ndPrin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fires after last page has prin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ntP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occurs for each page prin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Coordinat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ece of paper has a fixed size (typically 8 ½ x 11 inch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per-left corner has (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x, y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coordinates of  (0, 0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wer-right corner has (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x, y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coordinates of (850, 1100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nit of measure is 1/100 of an inc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Coordinat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2666880"/>
            <a:ext cx="243864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2666880"/>
            <a:ext cx="5144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2513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66688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217600"/>
            <a:ext cx="838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00680" y="5284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5430960"/>
            <a:ext cx="83844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0,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5430960"/>
            <a:ext cx="6480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24440" y="2666880"/>
            <a:ext cx="6382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0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Printing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Page event applies to the PrintDocument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pplies a reference to the PrintPageEventArgs cla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ntPageEventArgs class, in turn supplies a reference to the Graphics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PageEventArgs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HasMoreP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ines whether additional pages need to be prin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t property to false when finished print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arginBound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defines the area inside the page margi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ageBound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ines the size of the pap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ageSetting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ines general printer characteristics such as whether paper orient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ringFormat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es to the System.Drawing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ment property controls how text is aligned in a rect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mming property defines how characters are trun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set to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text is trimmed to the nearest charac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set to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then the characters are trimmed to the nearest wor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n Object Programmaticall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Win Form Designer writes statements to create control insta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is code is typically collapsed and appears in the region "Windows Form Designer generated code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statements to create form and control instances to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o create an object, declare a variable with the New keyw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ta type is the class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 form, this is the value of the Name proper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reate an instance of the form named frmSplas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im frmNew As New frmSplash(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playing a Form as a Modal Dialog Bo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howDialog method of the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a form is displayed as a modal dialog, form must be close before other forms can get foc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form's constructor is called when form instance is crea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 the form using the variable frmNewSplas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m frmNewSplash As New frmSplas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rmNewSplash.ShowDialog(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ecuting Statement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peatedly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o Loop executes statements repeatedly until some condition becomes True or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he same Do loop can be written in different way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oop has the following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5-20T22:55:50Z</dcterms:modified>
  <cp:revision>901</cp:revision>
  <dc:subject/>
  <dc:title>CHAPTER 1</dc:title>
</cp:coreProperties>
</file>