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BD99-1455-4894-A6E6-D668AFA94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EE55-9BDB-47B4-A863-BCADF34D2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D8CD-CE64-4E0C-94D5-85643DC69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D731-E262-47D2-938F-BF214DEF3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0711A-88B0-4026-8AB4-C29DAD07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AF3A4-0749-494A-9BA0-18E42FD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DA4A8-6150-4E3C-9DDB-8C17B35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F5CD3-D0DA-446C-BF72-5C9CBFD0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AA1BC-221C-4848-9387-3FEB4BB6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B42B4-55E4-4C95-80F3-E4313A2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8F75F-23A9-4514-9EBE-A9FAB66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3B3E-39BC-4716-A78F-3C3D91541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F4CF4-4FC4-48CA-A005-499EC45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35B71-BB95-40D9-ABBB-CEB9598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874EA-6163-4829-AFE2-5D2497B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0157A-011E-42AA-835C-23CD9D07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F9900-EB8B-4846-9D07-7383F385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B536-4D23-4208-8A6E-1FE8B2059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B979-F1EC-410F-9CD9-3F960954C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EF34-511E-4AB2-8770-2915CE2EE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F5FA-9A48-4C34-8A1F-38CDA7248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9B11-8C77-4DDF-AB76-EB85F59E7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301E-DD59-4D03-86EA-B0FDF132B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C543-5A9E-4147-A522-8BEB4F482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4BBE-5564-449A-8B8D-4A3A8995A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A6DCF6EE-D8C9-4437-AA91-DD49FB1C5D4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EAB5-16AE-4EE2-9BA2-9A777D95A7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73840" y="6248520"/>
            <a:ext cx="227016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7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cessing Text Files with Arrays and Lis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a Sequential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opening a sequential file, you read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typically use a loop to read a sequential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methods of the StreamReader class to read the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reads a single character or multiple characte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adLi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reads a line into a str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ine is terminated by a carriage retur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adToEn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reads from its current position to the end of the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d method retur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h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the file has been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ding a Sequential File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psrdCurrent is an instance of the StreamReader class, the following loop reads the sequential file. The contents are stored in the string pstr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strLine, pstrFile As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trLine = psrdCurrent.ReadLin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Until pstrLine =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trFile += pstrLine &amp; Cr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trLine = psrdCurrent.ReadLin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 to Read a Sequential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1600200" cy="1447920"/>
          </a:xfrm>
          <a:prstGeom prst="diamond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89808" dir="1668390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81320" y="3886200"/>
            <a:ext cx="4762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28960" y="3886200"/>
            <a:ext cx="476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895400"/>
            <a:ext cx="1123920" cy="2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firs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819520"/>
            <a:ext cx="10288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nput line contain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47880" y="4400640"/>
            <a:ext cx="1123920" cy="476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curr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47880" y="5105520"/>
            <a:ext cx="1123920" cy="51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next inpu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720" y="202896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50540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25780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2952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3200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2004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90760" y="388620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440" y="5943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00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47880" y="5838840"/>
            <a:ext cx="1123920" cy="25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191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86800" y="4191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90760" y="5619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9076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1905120"/>
            <a:ext cx="44193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strLine = psrdCurrent.Readline(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3016080"/>
            <a:ext cx="441972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 Until pstrLine = Noth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4343400"/>
            <a:ext cx="441972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strFile += pstrLine &amp; CrL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952880"/>
            <a:ext cx="426744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strLine = psrdCurrent.Readline(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78400"/>
            <a:ext cx="99072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op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sing a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reading a file, you must explicitly clos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explicitly close a file may cause file corruption or loss of data (especially when writ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the Close method of the StreamReader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(Assume psrdCurrent is an instance of the StreamReader cl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rdCurrent.Clos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assing Arguments to a Constructo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that a constructor is a procedure named New that executes when VB .NET creates a form or other class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constructor can accept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list works the same as the argument list for any function or sub proced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ub New(ByVal pstrInput As Str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Base.New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itializeCompone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xtInputFile.Text = pstr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storing a single item of information are called scalar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teger, Double, and so 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s on the other hand store list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s of Integers, Doubles, and so 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al Information about Array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stores a list of several items each having the same dat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has one or mo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dimensions in an array is calle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 array with one dimension has a rank of 1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data item in an array is called an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individual element is referenced by a unique index number known as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VB .NET, arrays are classes (reference types) supporting properties and metho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Scalar Variables with an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2286000"/>
            <a:ext cx="20862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elve variables for months of th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2895480"/>
            <a:ext cx="1447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tJan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52680"/>
            <a:ext cx="1447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tFebr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3809880"/>
            <a:ext cx="1447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t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267080"/>
            <a:ext cx="1447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4724280"/>
            <a:ext cx="1447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tDec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114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1480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487692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571500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327672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24280" y="3276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952880" y="2209680"/>
          <a:ext cx="2819160" cy="36385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0 (Janu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1 (Febru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2 (Mar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3 (Apri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4 (M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5 (Ju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6 (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7 (Augu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8 (Septemb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9 (Octob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10 (Novemb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 11 (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 flipV="1">
            <a:off x="4495680" y="2666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About VB 6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VB 6, arrays were not classes. Thus they did not support properties o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 6 arrays could have a lower bound other than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ll VB .NET arrays have a lower bound of 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Array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Gets the total number of elements in the arr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ank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Gets the number of dimensions in the arr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etLowerBoun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Gets the smallest subscript for an array dimen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Value is always 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etUpperBoun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Gets the largest subscript for an array dimen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vers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Reverses the elements in a one-dimensional arr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or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Sorts an array in ascending or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processing textu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, read, and close a 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rrays to manage list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e input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 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a 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items using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instances of the ComboBox and ListBox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Array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declare an array the same way as you declare a scalar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tore and retrieve individual elements from an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can grow and shrink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can change the number of array dimensions or the number of elements in an array dimen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often search for a particular element in an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lements of an array often need to be s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you declare an array, you are allocating memory (RAM) to store the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that arrays are reference types so an array variable stores a memory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clare an array, you use the Dim, Private or, Public statements just as you would use to declare any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rrays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rray-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[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] 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ataty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itexp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m, Private, and Public keywords define the scope of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ame meaning as a scalar variab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rray-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any valid variabl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defines the initial number of array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f omitted, the array has no initial siz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ataty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use defines the data type of each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quired when strict type checking is enabl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itexp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s you to assign values to each element when the array is decla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rray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n empty array having a data type of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intEmpty()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n array with 3 elements having a data type of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intValues(3)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n array with 4 elements having a data type of Si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sngValues(4) As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claring and Initializ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ray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differs because you are not initializing a scalar variable but rather elements in 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initialize an array by entering values in a comma separated list. The list is enclosed in braces {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 dynamic Integer array named pintList and initialize the array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intList() As Integer = {24, 12, 34, 42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claring and Initializ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ray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arrays can also be declared and initi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s with all strings, literal values are enclosed in double quotation mar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114800"/>
            <a:ext cx="7162920" cy="1310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strMonthNames() As String =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"January", "February", "March", "April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ay", "June", "July", "August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September", "October", "November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December"}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imensioning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 of changing an array's size is known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imension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B .NET arrays are dynamic so any array can be redimensio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s are redimensioned with the ReDi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s an executable statement, ReDim must appear inside of a proced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can change the size of an array but you cannot change an array's data typ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eDim Statement (Syntax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i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ser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eDim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 resizes an arr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optional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eserv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keyword preserves the existing cont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When using the Preserve keyword, you can only change the size of the last dimensi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When reducing the size, elements will be delet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ains the array to resiz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rgument contains the new size (dimension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eDim Statement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ze an array and destroy its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im mintMonths(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ze an array and preserve its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im Preserve mintMonths(1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erforming Assignment Statements with Array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process is the same as with ordinary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owever you assign individual elements rather than the entire arr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value 84616 in the first array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member that all arrays in VB .NET are 0-ba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tMailMessages(0) = 846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Textu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applications work with tex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ord, Excel, and oth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s are read and written from beginning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trategy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quenti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 files are 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CII-delimited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erforming Assignment Statements with Array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s and scalar variables can be assigned as the following statements illustr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intMailMessages(11)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intMailMessageItem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first array element in the scalar variable named mintMailMessage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tMailMessageItem = mintMailMessage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Conversion with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use type conversion methods with arrays just as you use them with scalar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an Integer array element to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intMailMessages(11)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xtMailMessageMonth.Text = _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intMailMessage(0).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Array Erro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ze and shape of an array defines the array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ubscript values cannot exceed the array boun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following statement will cause an error because the array has 12 elements but the second statement tries to reference element number 50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mintMailMessage(11) As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intMailMessages(500) = 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Array Error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tore data in an array element, you must use a sub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assignment statement will cause an error because it does not specify an array ele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intMailMessages(11)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tMailMessages =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Sub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variables and literal values can be used as sub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using variables, the variable should be declared as Short, Integer, or Lo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intValue As Integer 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xtCount.Text = 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tMailMessages(pintValue).To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s and Loo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s are commonly used to examine all of the elements in an array or to store a value in all of the array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to calculate a to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pintTotal is an accumula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intCount, pintTotal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pintCount = 0 to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tTotal += mintMailMessages(pintCou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lit Method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you read a record from a sequential file you must often split the line into its component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s process is called pars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lit method divides a string into an array of strings based on a delimiter character or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st files use the comma (,) as the delimiter character but other characters can be u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lit Method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lit method requires that you declare an array having a data type of Char having one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 declares and initializes an array of type Ch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chrDelimiter() As Char = 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ToChar.(","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lit Method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para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pli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parses a string into fiel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separat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rgument contains an array of charact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Usually just a single character though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Split method returns an array of string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lit Method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pstrLine contains the string to be par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m pstrLine As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m pstrFields() As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m pchrDelimiter As Char() = {ToChar(",")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strFields = pstrLine.Split(pchrDelimi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aracteristics of Sequential Fi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s are separated into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ach line ends with a carriage retur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lso known as a hard carriage retur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ssing the Enter key generates a carriage return in most appli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line is called a rec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record contains a logical group of ite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record contains one or more fiel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ach field contains a unique piece of information from a rec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ach field is separated by a delimi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comma is the most common delimiter charac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litting a Text Lin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3276720"/>
            <a:ext cx="5076720" cy="36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ems Mary,131.216.39.3,Truman Bill,181.219.42.4,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86040" y="353376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4560" y="353376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05440" y="353376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91200" y="3533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91440" y="35337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33520" y="35337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33520" y="384984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3849840"/>
            <a:ext cx="0" cy="9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295520" y="4800600"/>
            <a:ext cx="65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5600" y="35337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5600" y="373536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57640" y="3735360"/>
            <a:ext cx="0" cy="13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295880" y="5076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81360" y="353376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81360" y="3638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91200" y="3638520"/>
            <a:ext cx="0" cy="17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95520" y="537228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43440" y="3533760"/>
            <a:ext cx="0" cy="21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95520" y="5695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34000" y="3533760"/>
            <a:ext cx="0" cy="24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95520" y="5962680"/>
            <a:ext cx="22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57960" y="1984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43760" y="1984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6560" y="2136600"/>
            <a:ext cx="107604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 (,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43760" y="236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38600" y="2660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38600" y="266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57560" y="266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33960" y="266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43560" y="266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52280" y="1984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62120" y="1984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71400" y="2593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71760" y="259380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71760" y="434664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76320" y="1603440"/>
            <a:ext cx="57913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strFields = pstrLine.Split(pchrDelimite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24040" y="4041720"/>
          <a:ext cx="2819160" cy="2146320"/>
        </p:xfrm>
        <a:graphic>
          <a:graphicData uri="http://schemas.openxmlformats.org/drawingml/2006/table">
            <a:tbl>
              <a:tblPr/>
              <a:tblGrid>
                <a:gridCol w="1057320"/>
                <a:gridCol w="17618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trF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ms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1.216.3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man B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1.219.4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Array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ort an array by calling the Sort method of the Array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verloaded Sort method has multiple syntax vari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Array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rst overloaded method sorts a one-dimensional array in ascend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cond overloaded method sorts two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rst array contains the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key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array contains the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valu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changes to the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rray are made to the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valu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rr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Array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 the array named mintMailMessa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Array.Sort(mintMailMessage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 the arrays named mintMailMessages and mstrMonth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intMailMessages contains the keys and mstrMonthNames contains the valu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Array.Sort(mintMailMessages, mstrMonthNam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ing to a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as the StreamReader class reads a file, the StreamWriter class writes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 NewLi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contains the character(s) that mark the end of a line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hen calling WriteLine, this character is appended to the li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closes a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write a character, character array, or string to a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riteLi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writes a line terminated with a NewLine charac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ing to a Fil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two arrays to a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ssume pswriCurrent is an instance of the StreamWriter cla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pintCount = 0 to 11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swriCurrent.Write(mstrMonthNames(pintCount)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swriCurrent.Write(","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swriCurrent.Write(mintMailMessages(pintCount)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swriCurrent.WriteLine(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ex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swriCurrent.Close(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s group related data times together log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a customer has a name, address, city, state, and zip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ructure allows you to create your own data type containing elements made up of other data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n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keywords define the scope of the struct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ains the name of the struct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andard variable naming rules app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nMetho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s contain the structure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 structure named sLog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ucture sLogRec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ourceName As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ourceIP As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estName As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estIP As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ytes As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 Structure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you have declared a type with the Structure statement, you can declare variables of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the same syntax to declare a Structure variable as an ordinary vari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a structure named Log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LogRecord As sLog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an array of structures named Log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LogRecords() As sLog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veats of Sequential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sure that each record contains the correct number of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field contains no information, place two delimiters next to one an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sure that each line ends with a carriage retu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line must end with a carriage retu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sure that no extra carriage returns exist at the end of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tting errors will likely cause VB .NET to raise an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sequential file processing has changed considerably in VB .N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ing Structur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ference an individual structure member use the same dot (.) notation that you use to reference the properties of a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Intellisense technology works on structures to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LogRecord As sLog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Record.SourceName = "Mary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ing Structur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work with arrays of structures t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key is that both sides of an assignment statement must have the same data typ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LogRecords(99) As sLogRec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LogRecord As sLogRec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Record = LogRecords(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Record.SourceName = LogRecords(0).Source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mboBox and ListBox Contr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controls display lists of data, such as a list of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controls allow you to sort data and determine which item the user has selected from a list of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mary difference is that a ComboBox control will drop-down but a list box will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controls share almost the same set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oBox Sty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pDown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controls how the ComboBox appears to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ropDow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– Allows user to select an item from a drop-down list of ite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user can also add a new it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– Control instance appears like a list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List does not drop-dow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ropDownLis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– Same as DropDown but user cannot add new ite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boBox and ListBox Proper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items stored in the ComboBox or List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DropDownIte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rols maximum number of items that will appear in the drop-down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0-bas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edInd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which item the user ha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value is -1 if no item is selec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if True causes the items to be sorted alphabe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ains the text of the currently selected 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oBox and ListBox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edIndexChan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he user selects a different item in the ComboBox or List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Chan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he user changes the text of the current i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tems Collection (Genera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es to both the ComboBox and ListBox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ains the items that appear in the control inst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milar to an array but contains additional methods to locate an item, add new items, and remove existing on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ms collection is but one collection among many supported by VB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tems Colle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u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returns the number of items in a coll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te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retrieves a specific element from the coll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llection is 0-based?? No – 1 Based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adds a new item to the coll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removes all items from the coll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moveA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removes a single i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s on Coll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m myCollection as new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item to a coll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yCollection.Add(custData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yCollection.Add(custData, “Smith”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e items by key o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X = myCollection(“Smith”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X = myCollection.Item(1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an 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yCollection.Remove(“Smith”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yCollection.remove(7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Items to 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For loops add items to the Items collection using the array of LogRecord structures named Log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pintCount = 0 To LogRecords.GetUpperBound(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boSourceIP.Items.Add(LogRecords(pintCount).Source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Fil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4382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ets Joe,131.216.39.3,Truman Bill,182.219.42.4,44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81952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ems Mary,131.216.39.3,Truman Bill,181.219.42.4,288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200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6576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532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26708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ve fields separated by commas (delimi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Sequential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ystem.IO namespace supplies two classes to read and write sequentia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treamRead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lass reads sequential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treamWrit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lass writes sequential fi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a Sequential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ad a sequential file you must first ope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a file by creating an instance of the StreamReader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for the StreamReader class is "sr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rgument contains the path and file name of the file to ope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ening a Sequential File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he file name stored in the instance of the OpenFileDialog control named ofdComm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srdCurrent As System.IO.StreamR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rdCurrent = New _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System.IO.StreamReader(ofdCommon.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Joel Carissimo</cp:lastModifiedBy>
  <dcterms:modified xsi:type="dcterms:W3CDTF">2003-08-26T04:05:55Z</dcterms:modified>
  <cp:revision>894</cp:revision>
  <dc:subject/>
  <dc:title>CHAPTER 1</dc:title>
</cp:coreProperties>
</file>